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799-C459-40D6-873C-EED9CF61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17C-36E6-47C2-837B-FF417F68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19A-AF4F-42BA-8D02-36CD96E7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EE6-3738-466B-A5F6-B1B18640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C04E-419F-41A8-AAB0-6217BEE6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0401-9D4A-4DA3-BD0C-F0BAA48A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0460-0CC5-4BBA-9A38-DCA82992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B44F-098E-4AEF-9FF4-BAFC6C36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4371-F5F4-44D3-8E0E-4FEB4B77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CDEC-1D54-48C1-B721-6755D238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A395-B2A2-440D-8164-6E4BA449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1B7-66D8-41B2-9E8C-2A448E71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FF28-8D96-471A-84AA-833AA988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CDB3-FBE5-417F-BA98-279523A4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5B89-86A3-4639-8F97-42E563AD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ADAA-34CA-44A0-AF97-A4C3CA38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D156-F69D-4271-B21F-E0DAF782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949-7BDB-438F-A8EE-6AC97A82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E64-5F89-416F-8F01-73EAE4D3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548-E64F-432A-8CA4-01D83C30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A33-7E1A-4ED3-B71C-0344950B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4D3-9E75-46EA-9D9A-4B23ED3A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372-BF55-4FF3-942F-441A3D15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761-6DEF-4B50-A952-7BC7DE35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A0F8-B0BC-4D29-B06D-DA469BAA32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F945-54F9-47FD-9119-462A6AB827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ckiewetmore.wikispace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Garamond"/>
              </a:rPr>
              <a:t>Getting Started on our Course Website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ype into your address line:</a:t>
            </a:r>
            <a:br>
              <a:rPr sz="3600"/>
            </a:br>
            <a:r>
              <a:rPr b="0" lang="en-US" sz="3600" spc="-1" strike="noStrike" u="sng">
                <a:solidFill>
                  <a:srgbClr val="3dccff"/>
                </a:solidFill>
                <a:uFillTx/>
                <a:latin typeface="Garamond"/>
                <a:hlinkClick r:id="rId1"/>
              </a:rPr>
              <a:t>www.jackiewetmore.wikispaces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3711" r="20370" b="88035"/>
          <a:stretch/>
        </p:blipFill>
        <p:spPr>
          <a:xfrm>
            <a:off x="914400" y="4800600"/>
            <a:ext cx="8229600" cy="639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The course discussion board can be accessed from here, as well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2640" y="1508040"/>
            <a:ext cx="1523880" cy="1335240"/>
          </a:xfrm>
          <a:custGeom>
            <a:avLst/>
            <a:gdLst/>
            <a:ahLst/>
            <a:rect l="l" t="t" r="r" b="b"/>
            <a:pathLst>
              <a:path w="4234" h="3706">
                <a:moveTo>
                  <a:pt x="11596" y="4641"/>
                </a:moveTo>
                <a:cubicBezTo>
                  <a:pt x="11177" y="4548"/>
                  <a:pt x="10801" y="4567"/>
                  <a:pt x="10382" y="4671"/>
                </a:cubicBezTo>
                <a:cubicBezTo>
                  <a:pt x="10043" y="4755"/>
                  <a:pt x="9719" y="4875"/>
                  <a:pt x="9474" y="5135"/>
                </a:cubicBezTo>
                <a:cubicBezTo>
                  <a:pt x="9024" y="5614"/>
                  <a:pt x="8883" y="6334"/>
                  <a:pt x="9176" y="6925"/>
                </a:cubicBezTo>
                <a:cubicBezTo>
                  <a:pt x="9405" y="7388"/>
                  <a:pt x="9818" y="7693"/>
                  <a:pt x="10326" y="7778"/>
                </a:cubicBezTo>
                <a:cubicBezTo>
                  <a:pt x="10958" y="7883"/>
                  <a:pt x="11656" y="7750"/>
                  <a:pt x="12146" y="7322"/>
                </a:cubicBezTo>
                <a:cubicBezTo>
                  <a:pt x="12666" y="6869"/>
                  <a:pt x="13015" y="6175"/>
                  <a:pt x="12870" y="5478"/>
                </a:cubicBezTo>
                <a:cubicBezTo>
                  <a:pt x="12788" y="5083"/>
                  <a:pt x="12554" y="4693"/>
                  <a:pt x="12236" y="4445"/>
                </a:cubicBezTo>
                <a:cubicBezTo>
                  <a:pt x="11853" y="4147"/>
                  <a:pt x="11340" y="4148"/>
                  <a:pt x="10890" y="4263"/>
                </a:cubicBezTo>
                <a:cubicBezTo>
                  <a:pt x="10192" y="4442"/>
                  <a:pt x="9467" y="4768"/>
                  <a:pt x="9024" y="5359"/>
                </a:cubicBezTo>
                <a:cubicBezTo>
                  <a:pt x="8725" y="5758"/>
                  <a:pt x="8576" y="6250"/>
                  <a:pt x="8742" y="6736"/>
                </a:cubicBezTo>
                <a:cubicBezTo>
                  <a:pt x="8892" y="7176"/>
                  <a:pt x="9235" y="7537"/>
                  <a:pt x="9660" y="7719"/>
                </a:cubicBezTo>
                <a:cubicBezTo>
                  <a:pt x="10165" y="7936"/>
                  <a:pt x="10728" y="7942"/>
                  <a:pt x="11252" y="7791"/>
                </a:cubicBezTo>
                <a:cubicBezTo>
                  <a:pt x="11874" y="7612"/>
                  <a:pt x="12372" y="7176"/>
                  <a:pt x="12569" y="6551"/>
                </a:cubicBezTo>
                <a:cubicBezTo>
                  <a:pt x="12728" y="6046"/>
                  <a:pt x="12627" y="5526"/>
                  <a:pt x="12441" y="504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ask homework questions and review with classmates for quizzes and tests in the current test’s forum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18462" r="3333" b="26155"/>
          <a:stretch/>
        </p:blipFill>
        <p:spPr>
          <a:xfrm>
            <a:off x="0" y="22860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53920" y="4060800"/>
            <a:ext cx="797040" cy="52560"/>
          </a:xfrm>
          <a:custGeom>
            <a:avLst/>
            <a:gdLst/>
            <a:ahLst/>
            <a:rect l="l" t="t" r="r" b="b"/>
            <a:pathLst>
              <a:path w="2214" h="144">
                <a:moveTo>
                  <a:pt x="2400" y="11302"/>
                </a:moveTo>
                <a:cubicBezTo>
                  <a:pt x="2385" y="11302"/>
                  <a:pt x="2379" y="11302"/>
                  <a:pt x="2371" y="11294"/>
                </a:cubicBezTo>
                <a:cubicBezTo>
                  <a:pt x="2410" y="11308"/>
                  <a:pt x="2444" y="11318"/>
                  <a:pt x="2487" y="11323"/>
                </a:cubicBezTo>
                <a:cubicBezTo>
                  <a:pt x="2549" y="11330"/>
                  <a:pt x="2608" y="11326"/>
                  <a:pt x="2667" y="11323"/>
                </a:cubicBezTo>
                <a:cubicBezTo>
                  <a:pt x="2696" y="11322"/>
                  <a:pt x="2725" y="11321"/>
                  <a:pt x="2754" y="11321"/>
                </a:cubicBezTo>
                <a:cubicBezTo>
                  <a:pt x="2784" y="11321"/>
                  <a:pt x="2815" y="11324"/>
                  <a:pt x="2845" y="11326"/>
                </a:cubicBezTo>
                <a:cubicBezTo>
                  <a:pt x="2878" y="11328"/>
                  <a:pt x="2911" y="11329"/>
                  <a:pt x="2944" y="11329"/>
                </a:cubicBezTo>
                <a:cubicBezTo>
                  <a:pt x="3027" y="11330"/>
                  <a:pt x="3102" y="11320"/>
                  <a:pt x="3184" y="11308"/>
                </a:cubicBezTo>
                <a:cubicBezTo>
                  <a:pt x="3211" y="11304"/>
                  <a:pt x="3240" y="11301"/>
                  <a:pt x="3267" y="11296"/>
                </a:cubicBezTo>
                <a:cubicBezTo>
                  <a:pt x="3317" y="11287"/>
                  <a:pt x="3362" y="11278"/>
                  <a:pt x="3414" y="11283"/>
                </a:cubicBezTo>
                <a:cubicBezTo>
                  <a:pt x="3445" y="11286"/>
                  <a:pt x="3474" y="11292"/>
                  <a:pt x="3505" y="11294"/>
                </a:cubicBezTo>
                <a:cubicBezTo>
                  <a:pt x="3534" y="11295"/>
                  <a:pt x="3563" y="11293"/>
                  <a:pt x="3591" y="11294"/>
                </a:cubicBezTo>
                <a:cubicBezTo>
                  <a:pt x="3620" y="11295"/>
                  <a:pt x="3646" y="11297"/>
                  <a:pt x="3674" y="11301"/>
                </a:cubicBezTo>
                <a:cubicBezTo>
                  <a:pt x="3705" y="11305"/>
                  <a:pt x="3736" y="11312"/>
                  <a:pt x="3767" y="11316"/>
                </a:cubicBezTo>
                <a:cubicBezTo>
                  <a:pt x="3793" y="11320"/>
                  <a:pt x="3817" y="11323"/>
                  <a:pt x="3842" y="11324"/>
                </a:cubicBezTo>
                <a:cubicBezTo>
                  <a:pt x="3884" y="11327"/>
                  <a:pt x="3925" y="11327"/>
                  <a:pt x="3967" y="11334"/>
                </a:cubicBezTo>
                <a:cubicBezTo>
                  <a:pt x="3995" y="11338"/>
                  <a:pt x="4022" y="11346"/>
                  <a:pt x="4050" y="11351"/>
                </a:cubicBezTo>
                <a:cubicBezTo>
                  <a:pt x="4077" y="11356"/>
                  <a:pt x="4104" y="11361"/>
                  <a:pt x="4132" y="11365"/>
                </a:cubicBezTo>
                <a:cubicBezTo>
                  <a:pt x="4174" y="11371"/>
                  <a:pt x="4214" y="11372"/>
                  <a:pt x="4257" y="11373"/>
                </a:cubicBezTo>
                <a:cubicBezTo>
                  <a:pt x="4285" y="11373"/>
                  <a:pt x="4311" y="11374"/>
                  <a:pt x="4340" y="11377"/>
                </a:cubicBezTo>
                <a:cubicBezTo>
                  <a:pt x="4379" y="11382"/>
                  <a:pt x="4417" y="11376"/>
                  <a:pt x="4454" y="11379"/>
                </a:cubicBezTo>
                <a:cubicBezTo>
                  <a:pt x="4476" y="11380"/>
                  <a:pt x="4495" y="11388"/>
                  <a:pt x="4517" y="11391"/>
                </a:cubicBezTo>
                <a:cubicBezTo>
                  <a:pt x="4537" y="11394"/>
                  <a:pt x="4558" y="11392"/>
                  <a:pt x="4576" y="11393"/>
                </a:cubicBezTo>
                <a:cubicBezTo>
                  <a:pt x="4583" y="11407"/>
                  <a:pt x="4585" y="11412"/>
                  <a:pt x="4584" y="114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post real-world applications and Christian worldviews for extra credit in the current test’s forum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8462" r="3333" b="26155"/>
          <a:stretch/>
        </p:blipFill>
        <p:spPr>
          <a:xfrm>
            <a:off x="0" y="22860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11080" y="3844800"/>
            <a:ext cx="1122480" cy="22320"/>
          </a:xfrm>
          <a:custGeom>
            <a:avLst/>
            <a:gdLst/>
            <a:ahLst/>
            <a:rect l="l" t="t" r="r" b="b"/>
            <a:pathLst>
              <a:path w="3114" h="61">
                <a:moveTo>
                  <a:pt x="2319" y="10701"/>
                </a:moveTo>
                <a:cubicBezTo>
                  <a:pt x="2293" y="10711"/>
                  <a:pt x="2277" y="10720"/>
                  <a:pt x="2255" y="10732"/>
                </a:cubicBezTo>
                <a:cubicBezTo>
                  <a:pt x="2278" y="10732"/>
                  <a:pt x="2301" y="10732"/>
                  <a:pt x="2324" y="10732"/>
                </a:cubicBezTo>
                <a:cubicBezTo>
                  <a:pt x="2397" y="10731"/>
                  <a:pt x="2467" y="10727"/>
                  <a:pt x="2540" y="10722"/>
                </a:cubicBezTo>
                <a:cubicBezTo>
                  <a:pt x="2586" y="10719"/>
                  <a:pt x="2633" y="10721"/>
                  <a:pt x="2678" y="10718"/>
                </a:cubicBezTo>
                <a:cubicBezTo>
                  <a:pt x="2702" y="10716"/>
                  <a:pt x="2726" y="10711"/>
                  <a:pt x="2750" y="10710"/>
                </a:cubicBezTo>
                <a:cubicBezTo>
                  <a:pt x="2814" y="10708"/>
                  <a:pt x="2878" y="10711"/>
                  <a:pt x="2941" y="10719"/>
                </a:cubicBezTo>
                <a:cubicBezTo>
                  <a:pt x="2973" y="10723"/>
                  <a:pt x="3001" y="10726"/>
                  <a:pt x="3033" y="10726"/>
                </a:cubicBezTo>
                <a:cubicBezTo>
                  <a:pt x="3065" y="10726"/>
                  <a:pt x="3092" y="10721"/>
                  <a:pt x="3123" y="10719"/>
                </a:cubicBezTo>
                <a:cubicBezTo>
                  <a:pt x="3162" y="10716"/>
                  <a:pt x="3203" y="10715"/>
                  <a:pt x="3240" y="10711"/>
                </a:cubicBezTo>
                <a:cubicBezTo>
                  <a:pt x="3264" y="10708"/>
                  <a:pt x="3287" y="10706"/>
                  <a:pt x="3312" y="10704"/>
                </a:cubicBezTo>
                <a:cubicBezTo>
                  <a:pt x="3336" y="10702"/>
                  <a:pt x="3359" y="10702"/>
                  <a:pt x="3383" y="10701"/>
                </a:cubicBezTo>
                <a:cubicBezTo>
                  <a:pt x="3407" y="10700"/>
                  <a:pt x="3431" y="10693"/>
                  <a:pt x="3456" y="10694"/>
                </a:cubicBezTo>
                <a:cubicBezTo>
                  <a:pt x="3480" y="10695"/>
                  <a:pt x="3501" y="10694"/>
                  <a:pt x="3525" y="10694"/>
                </a:cubicBezTo>
                <a:cubicBezTo>
                  <a:pt x="3565" y="10693"/>
                  <a:pt x="3607" y="10693"/>
                  <a:pt x="3646" y="10696"/>
                </a:cubicBezTo>
                <a:cubicBezTo>
                  <a:pt x="3673" y="10698"/>
                  <a:pt x="3699" y="10705"/>
                  <a:pt x="3726" y="10708"/>
                </a:cubicBezTo>
                <a:cubicBezTo>
                  <a:pt x="3754" y="10711"/>
                  <a:pt x="3782" y="10717"/>
                  <a:pt x="3810" y="10718"/>
                </a:cubicBezTo>
                <a:cubicBezTo>
                  <a:pt x="3858" y="10719"/>
                  <a:pt x="3908" y="10717"/>
                  <a:pt x="3956" y="10718"/>
                </a:cubicBezTo>
                <a:cubicBezTo>
                  <a:pt x="4055" y="10719"/>
                  <a:pt x="4153" y="10726"/>
                  <a:pt x="4252" y="10730"/>
                </a:cubicBezTo>
                <a:cubicBezTo>
                  <a:pt x="4285" y="10731"/>
                  <a:pt x="4317" y="10727"/>
                  <a:pt x="4348" y="10726"/>
                </a:cubicBezTo>
                <a:cubicBezTo>
                  <a:pt x="4374" y="10725"/>
                  <a:pt x="4401" y="10728"/>
                  <a:pt x="4428" y="10726"/>
                </a:cubicBezTo>
                <a:cubicBezTo>
                  <a:pt x="4463" y="10723"/>
                  <a:pt x="4498" y="10720"/>
                  <a:pt x="4533" y="10719"/>
                </a:cubicBezTo>
                <a:cubicBezTo>
                  <a:pt x="4575" y="10718"/>
                  <a:pt x="4615" y="10724"/>
                  <a:pt x="4656" y="10724"/>
                </a:cubicBezTo>
                <a:cubicBezTo>
                  <a:pt x="4693" y="10724"/>
                  <a:pt x="4732" y="10728"/>
                  <a:pt x="4768" y="10729"/>
                </a:cubicBezTo>
                <a:cubicBezTo>
                  <a:pt x="4845" y="10731"/>
                  <a:pt x="4922" y="10743"/>
                  <a:pt x="4998" y="10740"/>
                </a:cubicBezTo>
                <a:cubicBezTo>
                  <a:pt x="5057" y="10738"/>
                  <a:pt x="5116" y="10736"/>
                  <a:pt x="5175" y="10735"/>
                </a:cubicBezTo>
                <a:cubicBezTo>
                  <a:pt x="5198" y="10735"/>
                  <a:pt x="5221" y="10737"/>
                  <a:pt x="5244" y="10738"/>
                </a:cubicBezTo>
                <a:cubicBezTo>
                  <a:pt x="5290" y="10739"/>
                  <a:pt x="5318" y="10741"/>
                  <a:pt x="5347" y="10716"/>
                </a:cubicBezTo>
                <a:cubicBezTo>
                  <a:pt x="5363" y="10701"/>
                  <a:pt x="5368" y="10696"/>
                  <a:pt x="5368" y="1068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The course Google calendar with test/quiz schedule and links to class notes and homework can be accessed from the course page or the navigation bar to the right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943760" y="3409920"/>
            <a:ext cx="914400" cy="31680"/>
          </a:xfrm>
          <a:custGeom>
            <a:avLst/>
            <a:gdLst/>
            <a:ahLst/>
            <a:rect l="l" t="t" r="r" b="b"/>
            <a:pathLst>
              <a:path w="2542" h="85">
                <a:moveTo>
                  <a:pt x="22094" y="9482"/>
                </a:moveTo>
                <a:cubicBezTo>
                  <a:pt x="22089" y="9480"/>
                  <a:pt x="22085" y="9477"/>
                  <a:pt x="22080" y="9475"/>
                </a:cubicBezTo>
                <a:cubicBezTo>
                  <a:pt x="22091" y="9509"/>
                  <a:pt x="22044" y="9504"/>
                  <a:pt x="22096" y="9524"/>
                </a:cubicBezTo>
                <a:cubicBezTo>
                  <a:pt x="22118" y="9532"/>
                  <a:pt x="22152" y="9523"/>
                  <a:pt x="22174" y="9525"/>
                </a:cubicBezTo>
                <a:cubicBezTo>
                  <a:pt x="22210" y="9529"/>
                  <a:pt x="22246" y="9534"/>
                  <a:pt x="22282" y="9536"/>
                </a:cubicBezTo>
                <a:cubicBezTo>
                  <a:pt x="22336" y="9539"/>
                  <a:pt x="22390" y="9541"/>
                  <a:pt x="22442" y="9546"/>
                </a:cubicBezTo>
                <a:cubicBezTo>
                  <a:pt x="22500" y="9552"/>
                  <a:pt x="22557" y="9562"/>
                  <a:pt x="22615" y="9555"/>
                </a:cubicBezTo>
                <a:cubicBezTo>
                  <a:pt x="22635" y="9553"/>
                  <a:pt x="22654" y="9548"/>
                  <a:pt x="22674" y="9546"/>
                </a:cubicBezTo>
                <a:cubicBezTo>
                  <a:pt x="22700" y="9544"/>
                  <a:pt x="22726" y="9543"/>
                  <a:pt x="22752" y="9542"/>
                </a:cubicBezTo>
                <a:cubicBezTo>
                  <a:pt x="22819" y="9540"/>
                  <a:pt x="22884" y="9536"/>
                  <a:pt x="22951" y="9536"/>
                </a:cubicBezTo>
                <a:cubicBezTo>
                  <a:pt x="22992" y="9536"/>
                  <a:pt x="23033" y="9535"/>
                  <a:pt x="23074" y="9533"/>
                </a:cubicBezTo>
                <a:cubicBezTo>
                  <a:pt x="23107" y="9532"/>
                  <a:pt x="23141" y="9532"/>
                  <a:pt x="23174" y="9530"/>
                </a:cubicBezTo>
                <a:cubicBezTo>
                  <a:pt x="23228" y="9526"/>
                  <a:pt x="23283" y="9518"/>
                  <a:pt x="23337" y="9517"/>
                </a:cubicBezTo>
                <a:cubicBezTo>
                  <a:pt x="23363" y="9517"/>
                  <a:pt x="23387" y="9518"/>
                  <a:pt x="23413" y="9517"/>
                </a:cubicBezTo>
                <a:cubicBezTo>
                  <a:pt x="23435" y="9516"/>
                  <a:pt x="23456" y="9515"/>
                  <a:pt x="23478" y="9514"/>
                </a:cubicBezTo>
                <a:cubicBezTo>
                  <a:pt x="23528" y="9513"/>
                  <a:pt x="23578" y="9515"/>
                  <a:pt x="23628" y="9517"/>
                </a:cubicBezTo>
                <a:cubicBezTo>
                  <a:pt x="23650" y="9518"/>
                  <a:pt x="23672" y="9517"/>
                  <a:pt x="23694" y="9517"/>
                </a:cubicBezTo>
                <a:cubicBezTo>
                  <a:pt x="23739" y="9516"/>
                  <a:pt x="23785" y="9516"/>
                  <a:pt x="23830" y="9514"/>
                </a:cubicBezTo>
                <a:cubicBezTo>
                  <a:pt x="23890" y="9511"/>
                  <a:pt x="23947" y="9502"/>
                  <a:pt x="24007" y="9503"/>
                </a:cubicBezTo>
                <a:cubicBezTo>
                  <a:pt x="24035" y="9503"/>
                  <a:pt x="24061" y="9504"/>
                  <a:pt x="24089" y="9502"/>
                </a:cubicBezTo>
                <a:cubicBezTo>
                  <a:pt x="24148" y="9497"/>
                  <a:pt x="24200" y="9497"/>
                  <a:pt x="24259" y="9499"/>
                </a:cubicBezTo>
                <a:cubicBezTo>
                  <a:pt x="24305" y="9501"/>
                  <a:pt x="24353" y="9500"/>
                  <a:pt x="24399" y="9497"/>
                </a:cubicBezTo>
                <a:cubicBezTo>
                  <a:pt x="24456" y="9493"/>
                  <a:pt x="24521" y="9492"/>
                  <a:pt x="24577" y="9483"/>
                </a:cubicBezTo>
                <a:cubicBezTo>
                  <a:pt x="24593" y="9481"/>
                  <a:pt x="24580" y="9478"/>
                  <a:pt x="24595" y="947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800" y="4800600"/>
            <a:ext cx="4498920" cy="114480"/>
          </a:xfrm>
          <a:custGeom>
            <a:avLst/>
            <a:gdLst/>
            <a:ahLst/>
            <a:rect l="l" t="t" r="r" b="b"/>
            <a:pathLst>
              <a:path w="12495" h="315">
                <a:moveTo>
                  <a:pt x="2145" y="13620"/>
                </a:moveTo>
                <a:cubicBezTo>
                  <a:pt x="2177" y="13623"/>
                  <a:pt x="2173" y="13647"/>
                  <a:pt x="2205" y="13647"/>
                </a:cubicBezTo>
                <a:cubicBezTo>
                  <a:pt x="2388" y="13648"/>
                  <a:pt x="2565" y="13612"/>
                  <a:pt x="2751" y="13612"/>
                </a:cubicBezTo>
                <a:cubicBezTo>
                  <a:pt x="2988" y="13612"/>
                  <a:pt x="3222" y="13648"/>
                  <a:pt x="3458" y="13648"/>
                </a:cubicBezTo>
                <a:cubicBezTo>
                  <a:pt x="3630" y="13648"/>
                  <a:pt x="3804" y="13646"/>
                  <a:pt x="3975" y="13640"/>
                </a:cubicBezTo>
                <a:cubicBezTo>
                  <a:pt x="4321" y="13627"/>
                  <a:pt x="4661" y="13597"/>
                  <a:pt x="5007" y="13603"/>
                </a:cubicBezTo>
                <a:cubicBezTo>
                  <a:pt x="5155" y="13605"/>
                  <a:pt x="5301" y="13603"/>
                  <a:pt x="5449" y="13603"/>
                </a:cubicBezTo>
                <a:cubicBezTo>
                  <a:pt x="5757" y="13602"/>
                  <a:pt x="6063" y="13590"/>
                  <a:pt x="6370" y="13589"/>
                </a:cubicBezTo>
                <a:cubicBezTo>
                  <a:pt x="6759" y="13588"/>
                  <a:pt x="7149" y="13600"/>
                  <a:pt x="7536" y="13595"/>
                </a:cubicBezTo>
                <a:cubicBezTo>
                  <a:pt x="7782" y="13592"/>
                  <a:pt x="8025" y="13590"/>
                  <a:pt x="8271" y="13590"/>
                </a:cubicBezTo>
                <a:cubicBezTo>
                  <a:pt x="8610" y="13591"/>
                  <a:pt x="8948" y="13539"/>
                  <a:pt x="9287" y="13531"/>
                </a:cubicBezTo>
                <a:cubicBezTo>
                  <a:pt x="9718" y="13521"/>
                  <a:pt x="10151" y="13542"/>
                  <a:pt x="10581" y="13517"/>
                </a:cubicBezTo>
                <a:cubicBezTo>
                  <a:pt x="10750" y="13507"/>
                  <a:pt x="10919" y="13496"/>
                  <a:pt x="11087" y="13478"/>
                </a:cubicBezTo>
                <a:cubicBezTo>
                  <a:pt x="11252" y="13460"/>
                  <a:pt x="11414" y="13426"/>
                  <a:pt x="11578" y="13404"/>
                </a:cubicBezTo>
                <a:cubicBezTo>
                  <a:pt x="11688" y="13389"/>
                  <a:pt x="11770" y="13396"/>
                  <a:pt x="11878" y="13404"/>
                </a:cubicBezTo>
                <a:cubicBezTo>
                  <a:pt x="12091" y="13419"/>
                  <a:pt x="12302" y="13442"/>
                  <a:pt x="12515" y="13456"/>
                </a:cubicBezTo>
                <a:cubicBezTo>
                  <a:pt x="12769" y="13472"/>
                  <a:pt x="13025" y="13483"/>
                  <a:pt x="13279" y="13471"/>
                </a:cubicBezTo>
                <a:cubicBezTo>
                  <a:pt x="13469" y="13462"/>
                  <a:pt x="13650" y="13423"/>
                  <a:pt x="13838" y="13398"/>
                </a:cubicBezTo>
                <a:cubicBezTo>
                  <a:pt x="13980" y="13379"/>
                  <a:pt x="14130" y="13343"/>
                  <a:pt x="14271" y="13343"/>
                </a:cubicBezTo>
                <a:cubicBezTo>
                  <a:pt x="14361" y="13343"/>
                  <a:pt x="14447" y="13356"/>
                  <a:pt x="14535" y="13376"/>
                </a:cubicBezTo>
                <a:cubicBezTo>
                  <a:pt x="14565" y="13383"/>
                  <a:pt x="14600" y="13411"/>
                  <a:pt x="14625" y="13418"/>
                </a:cubicBezTo>
                <a:cubicBezTo>
                  <a:pt x="14604" y="13412"/>
                  <a:pt x="14598" y="13410"/>
                  <a:pt x="14587" y="1340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0040" y="4789440"/>
            <a:ext cx="4371840" cy="81000"/>
          </a:xfrm>
          <a:custGeom>
            <a:avLst/>
            <a:gdLst/>
            <a:ahLst/>
            <a:rect l="l" t="t" r="r" b="b"/>
            <a:pathLst>
              <a:path w="12142" h="226">
                <a:moveTo>
                  <a:pt x="2159" y="13406"/>
                </a:moveTo>
                <a:cubicBezTo>
                  <a:pt x="2200" y="13421"/>
                  <a:pt x="2184" y="13453"/>
                  <a:pt x="2227" y="13462"/>
                </a:cubicBezTo>
                <a:cubicBezTo>
                  <a:pt x="2484" y="13518"/>
                  <a:pt x="2773" y="13468"/>
                  <a:pt x="3036" y="13479"/>
                </a:cubicBezTo>
                <a:cubicBezTo>
                  <a:pt x="3296" y="13490"/>
                  <a:pt x="3557" y="13503"/>
                  <a:pt x="3817" y="13517"/>
                </a:cubicBezTo>
                <a:cubicBezTo>
                  <a:pt x="4013" y="13527"/>
                  <a:pt x="4207" y="13523"/>
                  <a:pt x="4404" y="13514"/>
                </a:cubicBezTo>
                <a:cubicBezTo>
                  <a:pt x="4642" y="13503"/>
                  <a:pt x="4878" y="13475"/>
                  <a:pt x="5114" y="13451"/>
                </a:cubicBezTo>
                <a:cubicBezTo>
                  <a:pt x="5245" y="13437"/>
                  <a:pt x="5369" y="13433"/>
                  <a:pt x="5501" y="13432"/>
                </a:cubicBezTo>
                <a:cubicBezTo>
                  <a:pt x="5969" y="13428"/>
                  <a:pt x="6431" y="13439"/>
                  <a:pt x="6898" y="13454"/>
                </a:cubicBezTo>
                <a:cubicBezTo>
                  <a:pt x="7162" y="13462"/>
                  <a:pt x="7424" y="13495"/>
                  <a:pt x="7688" y="13489"/>
                </a:cubicBezTo>
                <a:cubicBezTo>
                  <a:pt x="8026" y="13481"/>
                  <a:pt x="8364" y="13488"/>
                  <a:pt x="8703" y="13471"/>
                </a:cubicBezTo>
                <a:cubicBezTo>
                  <a:pt x="9007" y="13456"/>
                  <a:pt x="9302" y="13383"/>
                  <a:pt x="9604" y="13354"/>
                </a:cubicBezTo>
                <a:cubicBezTo>
                  <a:pt x="9885" y="13327"/>
                  <a:pt x="10145" y="13409"/>
                  <a:pt x="10423" y="13429"/>
                </a:cubicBezTo>
                <a:cubicBezTo>
                  <a:pt x="10591" y="13441"/>
                  <a:pt x="10779" y="13444"/>
                  <a:pt x="10946" y="13434"/>
                </a:cubicBezTo>
                <a:cubicBezTo>
                  <a:pt x="11058" y="13427"/>
                  <a:pt x="11166" y="13404"/>
                  <a:pt x="11278" y="13396"/>
                </a:cubicBezTo>
                <a:cubicBezTo>
                  <a:pt x="11457" y="13383"/>
                  <a:pt x="11639" y="13385"/>
                  <a:pt x="11820" y="13382"/>
                </a:cubicBezTo>
                <a:cubicBezTo>
                  <a:pt x="12074" y="13378"/>
                  <a:pt x="12319" y="13386"/>
                  <a:pt x="12572" y="13361"/>
                </a:cubicBezTo>
                <a:cubicBezTo>
                  <a:pt x="12741" y="13344"/>
                  <a:pt x="12911" y="13312"/>
                  <a:pt x="13078" y="13312"/>
                </a:cubicBezTo>
                <a:cubicBezTo>
                  <a:pt x="13261" y="13311"/>
                  <a:pt x="13448" y="13322"/>
                  <a:pt x="13632" y="13329"/>
                </a:cubicBezTo>
                <a:cubicBezTo>
                  <a:pt x="13757" y="13334"/>
                  <a:pt x="13883" y="13344"/>
                  <a:pt x="14007" y="13354"/>
                </a:cubicBezTo>
                <a:cubicBezTo>
                  <a:pt x="14099" y="13361"/>
                  <a:pt x="14188" y="13365"/>
                  <a:pt x="14280" y="1336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0040" y="4916520"/>
            <a:ext cx="4516200" cy="108000"/>
          </a:xfrm>
          <a:custGeom>
            <a:avLst/>
            <a:gdLst/>
            <a:ahLst/>
            <a:rect l="l" t="t" r="r" b="b"/>
            <a:pathLst>
              <a:path w="12545" h="301">
                <a:moveTo>
                  <a:pt x="2189" y="13667"/>
                </a:moveTo>
                <a:cubicBezTo>
                  <a:pt x="2171" y="13666"/>
                  <a:pt x="2157" y="13668"/>
                  <a:pt x="2140" y="13668"/>
                </a:cubicBezTo>
                <a:cubicBezTo>
                  <a:pt x="2250" y="13677"/>
                  <a:pt x="2344" y="13704"/>
                  <a:pt x="2460" y="13693"/>
                </a:cubicBezTo>
                <a:cubicBezTo>
                  <a:pt x="2753" y="13666"/>
                  <a:pt x="2942" y="13716"/>
                  <a:pt x="3229" y="13761"/>
                </a:cubicBezTo>
                <a:cubicBezTo>
                  <a:pt x="3619" y="13823"/>
                  <a:pt x="4040" y="13788"/>
                  <a:pt x="4434" y="13793"/>
                </a:cubicBezTo>
                <a:cubicBezTo>
                  <a:pt x="4793" y="13797"/>
                  <a:pt x="5154" y="13840"/>
                  <a:pt x="5513" y="13859"/>
                </a:cubicBezTo>
                <a:cubicBezTo>
                  <a:pt x="5700" y="13869"/>
                  <a:pt x="5887" y="13881"/>
                  <a:pt x="6074" y="13886"/>
                </a:cubicBezTo>
                <a:cubicBezTo>
                  <a:pt x="6470" y="13898"/>
                  <a:pt x="6864" y="13927"/>
                  <a:pt x="7260" y="13936"/>
                </a:cubicBezTo>
                <a:cubicBezTo>
                  <a:pt x="7618" y="13944"/>
                  <a:pt x="7975" y="13955"/>
                  <a:pt x="8332" y="13937"/>
                </a:cubicBezTo>
                <a:cubicBezTo>
                  <a:pt x="8666" y="13921"/>
                  <a:pt x="8996" y="13947"/>
                  <a:pt x="9328" y="13937"/>
                </a:cubicBezTo>
                <a:cubicBezTo>
                  <a:pt x="9718" y="13926"/>
                  <a:pt x="10103" y="13862"/>
                  <a:pt x="10494" y="13868"/>
                </a:cubicBezTo>
                <a:cubicBezTo>
                  <a:pt x="10810" y="13873"/>
                  <a:pt x="11111" y="13849"/>
                  <a:pt x="11423" y="13836"/>
                </a:cubicBezTo>
                <a:cubicBezTo>
                  <a:pt x="11934" y="13814"/>
                  <a:pt x="12452" y="13835"/>
                  <a:pt x="12963" y="13881"/>
                </a:cubicBezTo>
                <a:cubicBezTo>
                  <a:pt x="13244" y="13906"/>
                  <a:pt x="13487" y="13897"/>
                  <a:pt x="13766" y="13868"/>
                </a:cubicBezTo>
                <a:cubicBezTo>
                  <a:pt x="13979" y="13846"/>
                  <a:pt x="14189" y="13835"/>
                  <a:pt x="14401" y="13870"/>
                </a:cubicBezTo>
                <a:cubicBezTo>
                  <a:pt x="14500" y="13886"/>
                  <a:pt x="14596" y="13926"/>
                  <a:pt x="14684" y="13914"/>
                </a:cubicBezTo>
                <a:cubicBezTo>
                  <a:pt x="14700" y="13912"/>
                  <a:pt x="14648" y="13879"/>
                  <a:pt x="14664" y="1387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080" y="4938840"/>
            <a:ext cx="530280" cy="55440"/>
          </a:xfrm>
          <a:custGeom>
            <a:avLst/>
            <a:gdLst/>
            <a:ahLst/>
            <a:rect l="l" t="t" r="r" b="b"/>
            <a:pathLst>
              <a:path w="1474" h="155">
                <a:moveTo>
                  <a:pt x="2206" y="13718"/>
                </a:moveTo>
                <a:cubicBezTo>
                  <a:pt x="2199" y="13732"/>
                  <a:pt x="2171" y="13764"/>
                  <a:pt x="2178" y="13784"/>
                </a:cubicBezTo>
                <a:cubicBezTo>
                  <a:pt x="2187" y="13809"/>
                  <a:pt x="2220" y="13816"/>
                  <a:pt x="2241" y="13823"/>
                </a:cubicBezTo>
                <a:cubicBezTo>
                  <a:pt x="2269" y="13832"/>
                  <a:pt x="2302" y="13837"/>
                  <a:pt x="2331" y="13842"/>
                </a:cubicBezTo>
                <a:cubicBezTo>
                  <a:pt x="2374" y="13850"/>
                  <a:pt x="2420" y="13851"/>
                  <a:pt x="2463" y="13854"/>
                </a:cubicBezTo>
                <a:cubicBezTo>
                  <a:pt x="2499" y="13857"/>
                  <a:pt x="2535" y="13864"/>
                  <a:pt x="2570" y="13867"/>
                </a:cubicBezTo>
                <a:cubicBezTo>
                  <a:pt x="2596" y="13869"/>
                  <a:pt x="2621" y="13871"/>
                  <a:pt x="2646" y="13872"/>
                </a:cubicBezTo>
                <a:cubicBezTo>
                  <a:pt x="2712" y="13874"/>
                  <a:pt x="2779" y="13870"/>
                  <a:pt x="2844" y="13868"/>
                </a:cubicBezTo>
                <a:cubicBezTo>
                  <a:pt x="2889" y="13866"/>
                  <a:pt x="2933" y="13864"/>
                  <a:pt x="2978" y="13862"/>
                </a:cubicBezTo>
                <a:cubicBezTo>
                  <a:pt x="3031" y="13859"/>
                  <a:pt x="3084" y="13856"/>
                  <a:pt x="3137" y="13856"/>
                </a:cubicBezTo>
                <a:cubicBezTo>
                  <a:pt x="3166" y="13856"/>
                  <a:pt x="3194" y="13857"/>
                  <a:pt x="3223" y="13859"/>
                </a:cubicBezTo>
                <a:cubicBezTo>
                  <a:pt x="3258" y="13861"/>
                  <a:pt x="3293" y="13860"/>
                  <a:pt x="3328" y="13859"/>
                </a:cubicBezTo>
                <a:cubicBezTo>
                  <a:pt x="3359" y="13858"/>
                  <a:pt x="3391" y="13859"/>
                  <a:pt x="3422" y="13856"/>
                </a:cubicBezTo>
                <a:cubicBezTo>
                  <a:pt x="3456" y="13853"/>
                  <a:pt x="3488" y="13849"/>
                  <a:pt x="3522" y="13848"/>
                </a:cubicBezTo>
                <a:cubicBezTo>
                  <a:pt x="3565" y="13847"/>
                  <a:pt x="3608" y="13847"/>
                  <a:pt x="3651" y="1385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5000" y="4791240"/>
            <a:ext cx="3838680" cy="44280"/>
          </a:xfrm>
          <a:custGeom>
            <a:avLst/>
            <a:gdLst/>
            <a:ahLst/>
            <a:rect l="l" t="t" r="r" b="b"/>
            <a:pathLst>
              <a:path w="10665" h="123">
                <a:moveTo>
                  <a:pt x="2134" y="13364"/>
                </a:moveTo>
                <a:cubicBezTo>
                  <a:pt x="2131" y="13359"/>
                  <a:pt x="2128" y="13353"/>
                  <a:pt x="2125" y="13348"/>
                </a:cubicBezTo>
                <a:cubicBezTo>
                  <a:pt x="2335" y="13315"/>
                  <a:pt x="2531" y="13321"/>
                  <a:pt x="2747" y="13337"/>
                </a:cubicBezTo>
                <a:cubicBezTo>
                  <a:pt x="3020" y="13358"/>
                  <a:pt x="3287" y="13369"/>
                  <a:pt x="3561" y="13371"/>
                </a:cubicBezTo>
                <a:cubicBezTo>
                  <a:pt x="3876" y="13374"/>
                  <a:pt x="4193" y="13368"/>
                  <a:pt x="4506" y="13376"/>
                </a:cubicBezTo>
                <a:cubicBezTo>
                  <a:pt x="4864" y="13385"/>
                  <a:pt x="5224" y="13398"/>
                  <a:pt x="5581" y="13382"/>
                </a:cubicBezTo>
                <a:cubicBezTo>
                  <a:pt x="5843" y="13370"/>
                  <a:pt x="6104" y="13378"/>
                  <a:pt x="6364" y="13373"/>
                </a:cubicBezTo>
                <a:cubicBezTo>
                  <a:pt x="6580" y="13369"/>
                  <a:pt x="6797" y="13365"/>
                  <a:pt x="7013" y="13364"/>
                </a:cubicBezTo>
                <a:cubicBezTo>
                  <a:pt x="7267" y="13363"/>
                  <a:pt x="7526" y="13367"/>
                  <a:pt x="7782" y="13371"/>
                </a:cubicBezTo>
                <a:cubicBezTo>
                  <a:pt x="7921" y="13373"/>
                  <a:pt x="8055" y="13367"/>
                  <a:pt x="8194" y="13357"/>
                </a:cubicBezTo>
                <a:cubicBezTo>
                  <a:pt x="8322" y="13348"/>
                  <a:pt x="8450" y="13342"/>
                  <a:pt x="8578" y="13337"/>
                </a:cubicBezTo>
                <a:cubicBezTo>
                  <a:pt x="8689" y="13333"/>
                  <a:pt x="8804" y="13328"/>
                  <a:pt x="8916" y="13332"/>
                </a:cubicBezTo>
                <a:cubicBezTo>
                  <a:pt x="9082" y="13337"/>
                  <a:pt x="9248" y="13354"/>
                  <a:pt x="9413" y="13362"/>
                </a:cubicBezTo>
                <a:cubicBezTo>
                  <a:pt x="9831" y="13383"/>
                  <a:pt x="10247" y="13345"/>
                  <a:pt x="10663" y="13348"/>
                </a:cubicBezTo>
                <a:cubicBezTo>
                  <a:pt x="10850" y="13349"/>
                  <a:pt x="11046" y="13354"/>
                  <a:pt x="11233" y="13367"/>
                </a:cubicBezTo>
                <a:cubicBezTo>
                  <a:pt x="11688" y="13398"/>
                  <a:pt x="12152" y="13371"/>
                  <a:pt x="12604" y="13407"/>
                </a:cubicBezTo>
                <a:cubicBezTo>
                  <a:pt x="12667" y="13412"/>
                  <a:pt x="12727" y="13425"/>
                  <a:pt x="12789" y="1343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2000" y="4964040"/>
            <a:ext cx="854280" cy="22320"/>
          </a:xfrm>
          <a:custGeom>
            <a:avLst/>
            <a:gdLst/>
            <a:ahLst/>
            <a:rect l="l" t="t" r="r" b="b"/>
            <a:pathLst>
              <a:path w="2374" h="59">
                <a:moveTo>
                  <a:pt x="2200" y="13842"/>
                </a:moveTo>
                <a:cubicBezTo>
                  <a:pt x="2260" y="13819"/>
                  <a:pt x="2303" y="13818"/>
                  <a:pt x="2366" y="13818"/>
                </a:cubicBezTo>
                <a:cubicBezTo>
                  <a:pt x="2422" y="13818"/>
                  <a:pt x="2478" y="13818"/>
                  <a:pt x="2534" y="13815"/>
                </a:cubicBezTo>
                <a:cubicBezTo>
                  <a:pt x="2563" y="13813"/>
                  <a:pt x="2593" y="13808"/>
                  <a:pt x="2621" y="13803"/>
                </a:cubicBezTo>
                <a:cubicBezTo>
                  <a:pt x="2652" y="13797"/>
                  <a:pt x="2681" y="13791"/>
                  <a:pt x="2712" y="13790"/>
                </a:cubicBezTo>
                <a:cubicBezTo>
                  <a:pt x="2761" y="13788"/>
                  <a:pt x="2810" y="13795"/>
                  <a:pt x="2859" y="13798"/>
                </a:cubicBezTo>
                <a:cubicBezTo>
                  <a:pt x="2893" y="13800"/>
                  <a:pt x="2926" y="13801"/>
                  <a:pt x="2960" y="13801"/>
                </a:cubicBezTo>
                <a:cubicBezTo>
                  <a:pt x="2994" y="13801"/>
                  <a:pt x="3028" y="13800"/>
                  <a:pt x="3062" y="13801"/>
                </a:cubicBezTo>
                <a:cubicBezTo>
                  <a:pt x="3132" y="13803"/>
                  <a:pt x="3201" y="13803"/>
                  <a:pt x="3271" y="13804"/>
                </a:cubicBezTo>
                <a:cubicBezTo>
                  <a:pt x="3327" y="13805"/>
                  <a:pt x="3383" y="13809"/>
                  <a:pt x="3439" y="13811"/>
                </a:cubicBezTo>
                <a:cubicBezTo>
                  <a:pt x="3495" y="13813"/>
                  <a:pt x="3551" y="13814"/>
                  <a:pt x="3607" y="13817"/>
                </a:cubicBezTo>
                <a:cubicBezTo>
                  <a:pt x="3643" y="13819"/>
                  <a:pt x="3679" y="13822"/>
                  <a:pt x="3716" y="13823"/>
                </a:cubicBezTo>
                <a:cubicBezTo>
                  <a:pt x="3746" y="13824"/>
                  <a:pt x="3776" y="13825"/>
                  <a:pt x="3806" y="13826"/>
                </a:cubicBezTo>
                <a:cubicBezTo>
                  <a:pt x="3846" y="13828"/>
                  <a:pt x="3886" y="13831"/>
                  <a:pt x="3926" y="13832"/>
                </a:cubicBezTo>
                <a:cubicBezTo>
                  <a:pt x="3990" y="13833"/>
                  <a:pt x="4053" y="13829"/>
                  <a:pt x="4116" y="13828"/>
                </a:cubicBezTo>
                <a:cubicBezTo>
                  <a:pt x="4190" y="13827"/>
                  <a:pt x="4264" y="13836"/>
                  <a:pt x="4338" y="13839"/>
                </a:cubicBezTo>
                <a:cubicBezTo>
                  <a:pt x="4384" y="13841"/>
                  <a:pt x="4430" y="13843"/>
                  <a:pt x="4476" y="13845"/>
                </a:cubicBezTo>
                <a:cubicBezTo>
                  <a:pt x="4508" y="13846"/>
                  <a:pt x="4541" y="13846"/>
                  <a:pt x="4573" y="1384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79440" y="4975200"/>
            <a:ext cx="3934080" cy="84240"/>
          </a:xfrm>
          <a:custGeom>
            <a:avLst/>
            <a:gdLst/>
            <a:ahLst/>
            <a:rect l="l" t="t" r="r" b="b"/>
            <a:pathLst>
              <a:path w="10927" h="236">
                <a:moveTo>
                  <a:pt x="3553" y="13832"/>
                </a:moveTo>
                <a:cubicBezTo>
                  <a:pt x="3781" y="13829"/>
                  <a:pt x="4009" y="13831"/>
                  <a:pt x="4238" y="13828"/>
                </a:cubicBezTo>
                <a:cubicBezTo>
                  <a:pt x="4458" y="13825"/>
                  <a:pt x="4677" y="13814"/>
                  <a:pt x="4896" y="13832"/>
                </a:cubicBezTo>
                <a:cubicBezTo>
                  <a:pt x="5193" y="13856"/>
                  <a:pt x="5489" y="13869"/>
                  <a:pt x="5787" y="13876"/>
                </a:cubicBezTo>
                <a:cubicBezTo>
                  <a:pt x="6229" y="13886"/>
                  <a:pt x="6676" y="13867"/>
                  <a:pt x="7118" y="13892"/>
                </a:cubicBezTo>
                <a:cubicBezTo>
                  <a:pt x="7417" y="13909"/>
                  <a:pt x="7714" y="13909"/>
                  <a:pt x="8014" y="13898"/>
                </a:cubicBezTo>
                <a:cubicBezTo>
                  <a:pt x="8269" y="13889"/>
                  <a:pt x="8521" y="13911"/>
                  <a:pt x="8775" y="13906"/>
                </a:cubicBezTo>
                <a:cubicBezTo>
                  <a:pt x="9132" y="13899"/>
                  <a:pt x="9488" y="13872"/>
                  <a:pt x="9845" y="13889"/>
                </a:cubicBezTo>
                <a:cubicBezTo>
                  <a:pt x="10086" y="13900"/>
                  <a:pt x="10325" y="13919"/>
                  <a:pt x="10566" y="13925"/>
                </a:cubicBezTo>
                <a:cubicBezTo>
                  <a:pt x="10699" y="13928"/>
                  <a:pt x="10831" y="13925"/>
                  <a:pt x="10964" y="13926"/>
                </a:cubicBezTo>
                <a:cubicBezTo>
                  <a:pt x="11071" y="13927"/>
                  <a:pt x="11170" y="13931"/>
                  <a:pt x="11278" y="13925"/>
                </a:cubicBezTo>
                <a:cubicBezTo>
                  <a:pt x="11445" y="13916"/>
                  <a:pt x="11602" y="13901"/>
                  <a:pt x="11769" y="13907"/>
                </a:cubicBezTo>
                <a:cubicBezTo>
                  <a:pt x="12409" y="13930"/>
                  <a:pt x="13047" y="14001"/>
                  <a:pt x="13688" y="14001"/>
                </a:cubicBezTo>
                <a:cubicBezTo>
                  <a:pt x="13952" y="14001"/>
                  <a:pt x="14231" y="14019"/>
                  <a:pt x="14479" y="1405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On the Google course calendar you can see what sections will be covered each day and when tests and quizzes will be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16927" r="2499" b="10769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Garamond"/>
              </a:rPr>
              <a:t>You can also view and/or print the actual class notes PowerPoint by clicking on the section number “event” on the day on the calendar (i.e. P.1a).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  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102360" y="4560840"/>
            <a:ext cx="1000080" cy="39600"/>
          </a:xfrm>
          <a:custGeom>
            <a:avLst/>
            <a:gdLst/>
            <a:ahLst/>
            <a:rect l="l" t="t" r="r" b="b"/>
            <a:pathLst>
              <a:path w="2780" h="112">
                <a:moveTo>
                  <a:pt x="16950" y="12690"/>
                </a:moveTo>
                <a:cubicBezTo>
                  <a:pt x="16966" y="12686"/>
                  <a:pt x="16977" y="12675"/>
                  <a:pt x="17003" y="12673"/>
                </a:cubicBezTo>
                <a:cubicBezTo>
                  <a:pt x="17066" y="12669"/>
                  <a:pt x="17129" y="12669"/>
                  <a:pt x="17192" y="12670"/>
                </a:cubicBezTo>
                <a:cubicBezTo>
                  <a:pt x="17306" y="12672"/>
                  <a:pt x="17418" y="12689"/>
                  <a:pt x="17532" y="12696"/>
                </a:cubicBezTo>
                <a:cubicBezTo>
                  <a:pt x="17723" y="12707"/>
                  <a:pt x="17915" y="12718"/>
                  <a:pt x="18106" y="12720"/>
                </a:cubicBezTo>
                <a:cubicBezTo>
                  <a:pt x="18262" y="12722"/>
                  <a:pt x="18417" y="12724"/>
                  <a:pt x="18573" y="12734"/>
                </a:cubicBezTo>
                <a:cubicBezTo>
                  <a:pt x="18676" y="12740"/>
                  <a:pt x="18780" y="12742"/>
                  <a:pt x="18883" y="12743"/>
                </a:cubicBezTo>
                <a:cubicBezTo>
                  <a:pt x="18984" y="12744"/>
                  <a:pt x="19092" y="12734"/>
                  <a:pt x="19190" y="12740"/>
                </a:cubicBezTo>
                <a:cubicBezTo>
                  <a:pt x="19208" y="12741"/>
                  <a:pt x="19232" y="12743"/>
                  <a:pt x="19249" y="12746"/>
                </a:cubicBezTo>
                <a:cubicBezTo>
                  <a:pt x="19273" y="12750"/>
                  <a:pt x="19294" y="12756"/>
                  <a:pt x="19317" y="12760"/>
                </a:cubicBezTo>
                <a:cubicBezTo>
                  <a:pt x="19342" y="12764"/>
                  <a:pt x="19364" y="12770"/>
                  <a:pt x="19389" y="12773"/>
                </a:cubicBezTo>
                <a:cubicBezTo>
                  <a:pt x="19423" y="12777"/>
                  <a:pt x="19458" y="12779"/>
                  <a:pt x="19492" y="12778"/>
                </a:cubicBezTo>
                <a:cubicBezTo>
                  <a:pt x="19552" y="12776"/>
                  <a:pt x="19606" y="12769"/>
                  <a:pt x="19666" y="12771"/>
                </a:cubicBezTo>
                <a:cubicBezTo>
                  <a:pt x="19687" y="12772"/>
                  <a:pt x="19708" y="12774"/>
                  <a:pt x="19729" y="1277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Then click on “more details.”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545000" y="4186080"/>
            <a:ext cx="758880" cy="19080"/>
          </a:xfrm>
          <a:custGeom>
            <a:avLst/>
            <a:gdLst/>
            <a:ahLst/>
            <a:rect l="l" t="t" r="r" b="b"/>
            <a:pathLst>
              <a:path w="2109" h="54">
                <a:moveTo>
                  <a:pt x="12626" y="11651"/>
                </a:moveTo>
                <a:cubicBezTo>
                  <a:pt x="12691" y="11644"/>
                  <a:pt x="12756" y="11641"/>
                  <a:pt x="12822" y="11643"/>
                </a:cubicBezTo>
                <a:cubicBezTo>
                  <a:pt x="12898" y="11645"/>
                  <a:pt x="12973" y="11639"/>
                  <a:pt x="13049" y="11638"/>
                </a:cubicBezTo>
                <a:cubicBezTo>
                  <a:pt x="13127" y="11637"/>
                  <a:pt x="13206" y="11634"/>
                  <a:pt x="13284" y="11634"/>
                </a:cubicBezTo>
                <a:cubicBezTo>
                  <a:pt x="13339" y="11634"/>
                  <a:pt x="13396" y="11637"/>
                  <a:pt x="13451" y="11643"/>
                </a:cubicBezTo>
                <a:cubicBezTo>
                  <a:pt x="13498" y="11648"/>
                  <a:pt x="13546" y="11656"/>
                  <a:pt x="13592" y="11665"/>
                </a:cubicBezTo>
                <a:cubicBezTo>
                  <a:pt x="13635" y="11674"/>
                  <a:pt x="13677" y="11678"/>
                  <a:pt x="13721" y="11679"/>
                </a:cubicBezTo>
                <a:cubicBezTo>
                  <a:pt x="13763" y="11680"/>
                  <a:pt x="13806" y="11676"/>
                  <a:pt x="13848" y="11676"/>
                </a:cubicBezTo>
                <a:cubicBezTo>
                  <a:pt x="13927" y="11676"/>
                  <a:pt x="14007" y="11679"/>
                  <a:pt x="14086" y="11680"/>
                </a:cubicBezTo>
                <a:cubicBezTo>
                  <a:pt x="14129" y="11681"/>
                  <a:pt x="14172" y="11676"/>
                  <a:pt x="14214" y="11670"/>
                </a:cubicBezTo>
                <a:cubicBezTo>
                  <a:pt x="14266" y="11663"/>
                  <a:pt x="14317" y="11651"/>
                  <a:pt x="14369" y="11645"/>
                </a:cubicBezTo>
                <a:cubicBezTo>
                  <a:pt x="14435" y="11637"/>
                  <a:pt x="14507" y="11624"/>
                  <a:pt x="14573" y="11627"/>
                </a:cubicBezTo>
                <a:cubicBezTo>
                  <a:pt x="14596" y="11628"/>
                  <a:pt x="14618" y="11633"/>
                  <a:pt x="14640" y="11634"/>
                </a:cubicBezTo>
                <a:cubicBezTo>
                  <a:pt x="14671" y="11635"/>
                  <a:pt x="14703" y="11633"/>
                  <a:pt x="14734" y="1163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3818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aramond"/>
              </a:rPr>
              <a:t>This will take you to the attached Google document of the class notes that you can click on to view and/or print  whether you have PowerPoint or not.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2728" r="0" b="52729"/>
          <a:stretch/>
        </p:blipFill>
        <p:spPr>
          <a:xfrm>
            <a:off x="228600" y="3124080"/>
            <a:ext cx="861696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09800" y="4722840"/>
            <a:ext cx="698400" cy="28440"/>
          </a:xfrm>
          <a:custGeom>
            <a:avLst/>
            <a:gdLst/>
            <a:ahLst/>
            <a:rect l="l" t="t" r="r" b="b"/>
            <a:pathLst>
              <a:path w="1942" h="80">
                <a:moveTo>
                  <a:pt x="2805" y="13132"/>
                </a:moveTo>
                <a:cubicBezTo>
                  <a:pt x="2819" y="13141"/>
                  <a:pt x="2823" y="13154"/>
                  <a:pt x="2853" y="13160"/>
                </a:cubicBezTo>
                <a:cubicBezTo>
                  <a:pt x="2916" y="13173"/>
                  <a:pt x="2980" y="13178"/>
                  <a:pt x="3044" y="13171"/>
                </a:cubicBezTo>
                <a:cubicBezTo>
                  <a:pt x="3065" y="13169"/>
                  <a:pt x="3086" y="13166"/>
                  <a:pt x="3107" y="13164"/>
                </a:cubicBezTo>
                <a:cubicBezTo>
                  <a:pt x="3153" y="13160"/>
                  <a:pt x="3199" y="13163"/>
                  <a:pt x="3245" y="13165"/>
                </a:cubicBezTo>
                <a:cubicBezTo>
                  <a:pt x="3270" y="13166"/>
                  <a:pt x="3292" y="13166"/>
                  <a:pt x="3317" y="13165"/>
                </a:cubicBezTo>
                <a:cubicBezTo>
                  <a:pt x="3341" y="13164"/>
                  <a:pt x="3365" y="13161"/>
                  <a:pt x="3389" y="13160"/>
                </a:cubicBezTo>
                <a:cubicBezTo>
                  <a:pt x="3457" y="13157"/>
                  <a:pt x="3526" y="13158"/>
                  <a:pt x="3593" y="13156"/>
                </a:cubicBezTo>
                <a:cubicBezTo>
                  <a:pt x="3624" y="13155"/>
                  <a:pt x="3656" y="13153"/>
                  <a:pt x="3687" y="13153"/>
                </a:cubicBezTo>
                <a:cubicBezTo>
                  <a:pt x="3727" y="13153"/>
                  <a:pt x="3766" y="13150"/>
                  <a:pt x="3806" y="13148"/>
                </a:cubicBezTo>
                <a:cubicBezTo>
                  <a:pt x="3833" y="13146"/>
                  <a:pt x="3860" y="13144"/>
                  <a:pt x="3887" y="13142"/>
                </a:cubicBezTo>
                <a:cubicBezTo>
                  <a:pt x="3928" y="13139"/>
                  <a:pt x="3970" y="13134"/>
                  <a:pt x="4011" y="13132"/>
                </a:cubicBezTo>
                <a:cubicBezTo>
                  <a:pt x="4050" y="13130"/>
                  <a:pt x="4088" y="13123"/>
                  <a:pt x="4127" y="13121"/>
                </a:cubicBezTo>
                <a:cubicBezTo>
                  <a:pt x="4159" y="13119"/>
                  <a:pt x="4194" y="13114"/>
                  <a:pt x="4226" y="13117"/>
                </a:cubicBezTo>
                <a:cubicBezTo>
                  <a:pt x="4246" y="13119"/>
                  <a:pt x="4267" y="13125"/>
                  <a:pt x="4287" y="13128"/>
                </a:cubicBezTo>
                <a:cubicBezTo>
                  <a:pt x="4321" y="13133"/>
                  <a:pt x="4354" y="13133"/>
                  <a:pt x="4388" y="13134"/>
                </a:cubicBezTo>
                <a:cubicBezTo>
                  <a:pt x="4414" y="13135"/>
                  <a:pt x="4436" y="13139"/>
                  <a:pt x="4461" y="13143"/>
                </a:cubicBezTo>
                <a:cubicBezTo>
                  <a:pt x="4496" y="13149"/>
                  <a:pt x="4531" y="13153"/>
                  <a:pt x="4564" y="13165"/>
                </a:cubicBezTo>
                <a:cubicBezTo>
                  <a:pt x="4587" y="13173"/>
                  <a:pt x="4603" y="13178"/>
                  <a:pt x="4627" y="13182"/>
                </a:cubicBezTo>
                <a:cubicBezTo>
                  <a:pt x="4645" y="13185"/>
                  <a:pt x="4701" y="13200"/>
                  <a:pt x="4717" y="13195"/>
                </a:cubicBezTo>
                <a:cubicBezTo>
                  <a:pt x="4756" y="13182"/>
                  <a:pt x="4720" y="13195"/>
                  <a:pt x="4744" y="1317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access this “getting started” presentation for review anytime by clicking on the link in the navigation menu at the right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26682" r="2248" b="45381"/>
          <a:stretch/>
        </p:blipFill>
        <p:spPr>
          <a:xfrm>
            <a:off x="762120" y="5334120"/>
            <a:ext cx="7619760" cy="129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0" t="17709" r="1562" b="13540"/>
          <a:stretch/>
        </p:blipFill>
        <p:spPr>
          <a:xfrm>
            <a:off x="762120" y="1981080"/>
            <a:ext cx="7619760" cy="3475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05600" y="4646520"/>
            <a:ext cx="1452600" cy="654120"/>
          </a:xfrm>
          <a:custGeom>
            <a:avLst/>
            <a:gdLst/>
            <a:ahLst/>
            <a:rect l="l" t="t" r="r" b="b"/>
            <a:pathLst>
              <a:path w="4031" h="1817">
                <a:moveTo>
                  <a:pt x="22472" y="13525"/>
                </a:moveTo>
                <a:cubicBezTo>
                  <a:pt x="22430" y="13504"/>
                  <a:pt x="22391" y="13484"/>
                  <a:pt x="22347" y="13465"/>
                </a:cubicBezTo>
                <a:cubicBezTo>
                  <a:pt x="22060" y="13341"/>
                  <a:pt x="21766" y="13227"/>
                  <a:pt x="21452" y="13201"/>
                </a:cubicBezTo>
                <a:cubicBezTo>
                  <a:pt x="20875" y="13154"/>
                  <a:pt x="20256" y="13359"/>
                  <a:pt x="19779" y="13681"/>
                </a:cubicBezTo>
                <a:cubicBezTo>
                  <a:pt x="19602" y="13801"/>
                  <a:pt x="19431" y="13961"/>
                  <a:pt x="19470" y="14192"/>
                </a:cubicBezTo>
                <a:cubicBezTo>
                  <a:pt x="19502" y="14382"/>
                  <a:pt x="19735" y="14491"/>
                  <a:pt x="19896" y="14539"/>
                </a:cubicBezTo>
                <a:cubicBezTo>
                  <a:pt x="20290" y="14657"/>
                  <a:pt x="20727" y="14655"/>
                  <a:pt x="21134" y="14690"/>
                </a:cubicBezTo>
                <a:cubicBezTo>
                  <a:pt x="21613" y="14731"/>
                  <a:pt x="22091" y="14748"/>
                  <a:pt x="22563" y="14636"/>
                </a:cubicBezTo>
                <a:cubicBezTo>
                  <a:pt x="22883" y="14560"/>
                  <a:pt x="23283" y="14403"/>
                  <a:pt x="23445" y="14092"/>
                </a:cubicBezTo>
                <a:cubicBezTo>
                  <a:pt x="23520" y="13947"/>
                  <a:pt x="23494" y="13774"/>
                  <a:pt x="23427" y="13632"/>
                </a:cubicBezTo>
                <a:cubicBezTo>
                  <a:pt x="23273" y="13305"/>
                  <a:pt x="22911" y="13068"/>
                  <a:pt x="22572" y="12976"/>
                </a:cubicBezTo>
                <a:cubicBezTo>
                  <a:pt x="22250" y="12889"/>
                  <a:pt x="21893" y="12895"/>
                  <a:pt x="21563" y="12926"/>
                </a:cubicBezTo>
                <a:cubicBezTo>
                  <a:pt x="21167" y="12963"/>
                  <a:pt x="20798" y="13075"/>
                  <a:pt x="20454" y="13275"/>
                </a:cubicBezTo>
                <a:cubicBezTo>
                  <a:pt x="20176" y="13436"/>
                  <a:pt x="19885" y="13667"/>
                  <a:pt x="19729" y="13954"/>
                </a:cubicBezTo>
                <a:cubicBezTo>
                  <a:pt x="19660" y="14082"/>
                  <a:pt x="19658" y="14183"/>
                  <a:pt x="19646" y="143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75600" y="5073480"/>
            <a:ext cx="941400" cy="20880"/>
          </a:xfrm>
          <a:custGeom>
            <a:avLst/>
            <a:gdLst/>
            <a:ahLst/>
            <a:rect l="l" t="t" r="r" b="b"/>
            <a:pathLst>
              <a:path w="2617" h="56">
                <a:moveTo>
                  <a:pt x="20208" y="14143"/>
                </a:moveTo>
                <a:cubicBezTo>
                  <a:pt x="20228" y="14132"/>
                  <a:pt x="20242" y="14116"/>
                  <a:pt x="20269" y="14108"/>
                </a:cubicBezTo>
                <a:cubicBezTo>
                  <a:pt x="20291" y="14102"/>
                  <a:pt x="20311" y="14104"/>
                  <a:pt x="20332" y="14106"/>
                </a:cubicBezTo>
                <a:cubicBezTo>
                  <a:pt x="20351" y="14108"/>
                  <a:pt x="20375" y="14117"/>
                  <a:pt x="20396" y="14120"/>
                </a:cubicBezTo>
                <a:cubicBezTo>
                  <a:pt x="20462" y="14128"/>
                  <a:pt x="20530" y="14119"/>
                  <a:pt x="20597" y="14122"/>
                </a:cubicBezTo>
                <a:cubicBezTo>
                  <a:pt x="20616" y="14123"/>
                  <a:pt x="20634" y="14120"/>
                  <a:pt x="20653" y="14122"/>
                </a:cubicBezTo>
                <a:cubicBezTo>
                  <a:pt x="20678" y="14124"/>
                  <a:pt x="20703" y="14128"/>
                  <a:pt x="20728" y="14129"/>
                </a:cubicBezTo>
                <a:cubicBezTo>
                  <a:pt x="20772" y="14131"/>
                  <a:pt x="20820" y="14133"/>
                  <a:pt x="20863" y="14134"/>
                </a:cubicBezTo>
                <a:cubicBezTo>
                  <a:pt x="20919" y="14135"/>
                  <a:pt x="20979" y="14127"/>
                  <a:pt x="21035" y="14120"/>
                </a:cubicBezTo>
                <a:cubicBezTo>
                  <a:pt x="21068" y="14116"/>
                  <a:pt x="21099" y="14113"/>
                  <a:pt x="21132" y="14111"/>
                </a:cubicBezTo>
                <a:cubicBezTo>
                  <a:pt x="21162" y="14110"/>
                  <a:pt x="21192" y="14106"/>
                  <a:pt x="21222" y="14104"/>
                </a:cubicBezTo>
                <a:cubicBezTo>
                  <a:pt x="21272" y="14101"/>
                  <a:pt x="21322" y="14097"/>
                  <a:pt x="21372" y="14095"/>
                </a:cubicBezTo>
                <a:cubicBezTo>
                  <a:pt x="21425" y="14093"/>
                  <a:pt x="21479" y="14092"/>
                  <a:pt x="21532" y="14095"/>
                </a:cubicBezTo>
                <a:cubicBezTo>
                  <a:pt x="21561" y="14096"/>
                  <a:pt x="21589" y="14098"/>
                  <a:pt x="21618" y="14098"/>
                </a:cubicBezTo>
                <a:cubicBezTo>
                  <a:pt x="21645" y="14098"/>
                  <a:pt x="21671" y="14101"/>
                  <a:pt x="21698" y="14100"/>
                </a:cubicBezTo>
                <a:cubicBezTo>
                  <a:pt x="21741" y="14099"/>
                  <a:pt x="21782" y="14096"/>
                  <a:pt x="21825" y="14101"/>
                </a:cubicBezTo>
                <a:cubicBezTo>
                  <a:pt x="21894" y="14109"/>
                  <a:pt x="21964" y="14108"/>
                  <a:pt x="22033" y="14115"/>
                </a:cubicBezTo>
                <a:cubicBezTo>
                  <a:pt x="22077" y="14120"/>
                  <a:pt x="22121" y="14125"/>
                  <a:pt x="22165" y="14125"/>
                </a:cubicBezTo>
                <a:cubicBezTo>
                  <a:pt x="22216" y="14125"/>
                  <a:pt x="22267" y="14121"/>
                  <a:pt x="22318" y="14118"/>
                </a:cubicBezTo>
                <a:cubicBezTo>
                  <a:pt x="22427" y="14112"/>
                  <a:pt x="22512" y="14124"/>
                  <a:pt x="22616" y="14142"/>
                </a:cubicBezTo>
                <a:cubicBezTo>
                  <a:pt x="22658" y="14149"/>
                  <a:pt x="22692" y="14142"/>
                  <a:pt x="22733" y="14139"/>
                </a:cubicBezTo>
                <a:cubicBezTo>
                  <a:pt x="22765" y="14137"/>
                  <a:pt x="22795" y="14139"/>
                  <a:pt x="22824" y="1414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This will take you to the Home page</a:t>
            </a: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as seen below.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21430" r="2248" b="7481"/>
          <a:stretch/>
        </p:blipFill>
        <p:spPr>
          <a:xfrm>
            <a:off x="1219320" y="1143000"/>
            <a:ext cx="662940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28464" r="2248" b="22375"/>
          <a:stretch/>
        </p:blipFill>
        <p:spPr>
          <a:xfrm>
            <a:off x="1219320" y="4419720"/>
            <a:ext cx="66294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43545" r="2248" b="7481"/>
          <a:stretch/>
        </p:blipFill>
        <p:spPr>
          <a:xfrm>
            <a:off x="990720" y="1905120"/>
            <a:ext cx="708660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28464" r="2248" b="22375"/>
          <a:stretch/>
        </p:blipFill>
        <p:spPr>
          <a:xfrm>
            <a:off x="990720" y="4419720"/>
            <a:ext cx="7086600" cy="2438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16280" y="5370480"/>
            <a:ext cx="1101960" cy="46080"/>
          </a:xfrm>
          <a:custGeom>
            <a:avLst/>
            <a:gdLst/>
            <a:ahLst/>
            <a:rect l="l" t="t" r="r" b="b"/>
            <a:pathLst>
              <a:path w="3059" h="131">
                <a:moveTo>
                  <a:pt x="10324" y="15047"/>
                </a:moveTo>
                <a:cubicBezTo>
                  <a:pt x="10342" y="15045"/>
                  <a:pt x="10362" y="15040"/>
                  <a:pt x="10383" y="15039"/>
                </a:cubicBezTo>
                <a:cubicBezTo>
                  <a:pt x="10462" y="15035"/>
                  <a:pt x="10541" y="15039"/>
                  <a:pt x="10620" y="15039"/>
                </a:cubicBezTo>
                <a:cubicBezTo>
                  <a:pt x="10725" y="15039"/>
                  <a:pt x="10823" y="15021"/>
                  <a:pt x="10925" y="15014"/>
                </a:cubicBezTo>
                <a:cubicBezTo>
                  <a:pt x="10992" y="15009"/>
                  <a:pt x="11060" y="15009"/>
                  <a:pt x="11127" y="15008"/>
                </a:cubicBezTo>
                <a:cubicBezTo>
                  <a:pt x="11196" y="15007"/>
                  <a:pt x="11265" y="15005"/>
                  <a:pt x="11334" y="14998"/>
                </a:cubicBezTo>
                <a:cubicBezTo>
                  <a:pt x="11386" y="14993"/>
                  <a:pt x="11437" y="14986"/>
                  <a:pt x="11489" y="14983"/>
                </a:cubicBezTo>
                <a:cubicBezTo>
                  <a:pt x="11524" y="14981"/>
                  <a:pt x="11559" y="14978"/>
                  <a:pt x="11594" y="14975"/>
                </a:cubicBezTo>
                <a:cubicBezTo>
                  <a:pt x="11630" y="14972"/>
                  <a:pt x="11665" y="14969"/>
                  <a:pt x="11701" y="14967"/>
                </a:cubicBezTo>
                <a:cubicBezTo>
                  <a:pt x="11724" y="14966"/>
                  <a:pt x="11747" y="14965"/>
                  <a:pt x="11771" y="14964"/>
                </a:cubicBezTo>
                <a:cubicBezTo>
                  <a:pt x="11869" y="14960"/>
                  <a:pt x="11969" y="14956"/>
                  <a:pt x="12067" y="14955"/>
                </a:cubicBezTo>
                <a:cubicBezTo>
                  <a:pt x="12205" y="14954"/>
                  <a:pt x="12343" y="14953"/>
                  <a:pt x="12481" y="14947"/>
                </a:cubicBezTo>
                <a:cubicBezTo>
                  <a:pt x="12568" y="14943"/>
                  <a:pt x="12655" y="14937"/>
                  <a:pt x="12742" y="14936"/>
                </a:cubicBezTo>
                <a:cubicBezTo>
                  <a:pt x="12815" y="14935"/>
                  <a:pt x="12887" y="14933"/>
                  <a:pt x="12959" y="14931"/>
                </a:cubicBezTo>
                <a:cubicBezTo>
                  <a:pt x="13068" y="14928"/>
                  <a:pt x="13177" y="14935"/>
                  <a:pt x="13286" y="14930"/>
                </a:cubicBezTo>
                <a:cubicBezTo>
                  <a:pt x="13313" y="14929"/>
                  <a:pt x="13341" y="14927"/>
                  <a:pt x="13368" y="14923"/>
                </a:cubicBezTo>
                <a:cubicBezTo>
                  <a:pt x="13405" y="14918"/>
                  <a:pt x="13343" y="14921"/>
                  <a:pt x="13336" y="1491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75240" y="5497560"/>
            <a:ext cx="1191960" cy="33120"/>
          </a:xfrm>
          <a:custGeom>
            <a:avLst/>
            <a:gdLst/>
            <a:ahLst/>
            <a:rect l="l" t="t" r="r" b="b"/>
            <a:pathLst>
              <a:path w="3314" h="92">
                <a:moveTo>
                  <a:pt x="10208" y="15361"/>
                </a:moveTo>
                <a:cubicBezTo>
                  <a:pt x="10240" y="15357"/>
                  <a:pt x="10269" y="15349"/>
                  <a:pt x="10306" y="15350"/>
                </a:cubicBezTo>
                <a:cubicBezTo>
                  <a:pt x="10338" y="15350"/>
                  <a:pt x="10368" y="15355"/>
                  <a:pt x="10399" y="15356"/>
                </a:cubicBezTo>
                <a:cubicBezTo>
                  <a:pt x="10472" y="15358"/>
                  <a:pt x="10543" y="15353"/>
                  <a:pt x="10615" y="15348"/>
                </a:cubicBezTo>
                <a:cubicBezTo>
                  <a:pt x="10641" y="15346"/>
                  <a:pt x="10666" y="15344"/>
                  <a:pt x="10692" y="15342"/>
                </a:cubicBezTo>
                <a:cubicBezTo>
                  <a:pt x="10787" y="15333"/>
                  <a:pt x="10882" y="15325"/>
                  <a:pt x="10977" y="15319"/>
                </a:cubicBezTo>
                <a:cubicBezTo>
                  <a:pt x="11132" y="15308"/>
                  <a:pt x="11288" y="15305"/>
                  <a:pt x="11444" y="15297"/>
                </a:cubicBezTo>
                <a:cubicBezTo>
                  <a:pt x="11507" y="15294"/>
                  <a:pt x="11570" y="15289"/>
                  <a:pt x="11633" y="15287"/>
                </a:cubicBezTo>
                <a:cubicBezTo>
                  <a:pt x="11691" y="15285"/>
                  <a:pt x="11749" y="15285"/>
                  <a:pt x="11807" y="15281"/>
                </a:cubicBezTo>
                <a:cubicBezTo>
                  <a:pt x="11854" y="15278"/>
                  <a:pt x="11901" y="15274"/>
                  <a:pt x="11948" y="15273"/>
                </a:cubicBezTo>
                <a:cubicBezTo>
                  <a:pt x="12061" y="15271"/>
                  <a:pt x="12174" y="15270"/>
                  <a:pt x="12287" y="15270"/>
                </a:cubicBezTo>
                <a:cubicBezTo>
                  <a:pt x="12340" y="15270"/>
                  <a:pt x="12393" y="15270"/>
                  <a:pt x="12446" y="15273"/>
                </a:cubicBezTo>
                <a:cubicBezTo>
                  <a:pt x="12473" y="15275"/>
                  <a:pt x="12499" y="15277"/>
                  <a:pt x="12526" y="15278"/>
                </a:cubicBezTo>
                <a:cubicBezTo>
                  <a:pt x="12594" y="15281"/>
                  <a:pt x="12661" y="15289"/>
                  <a:pt x="12728" y="15294"/>
                </a:cubicBezTo>
                <a:cubicBezTo>
                  <a:pt x="12916" y="15308"/>
                  <a:pt x="13108" y="15293"/>
                  <a:pt x="13297" y="15300"/>
                </a:cubicBezTo>
                <a:cubicBezTo>
                  <a:pt x="13372" y="15303"/>
                  <a:pt x="13446" y="15307"/>
                  <a:pt x="13521" y="15305"/>
                </a:cubicBezTo>
                <a:cubicBezTo>
                  <a:pt x="13501" y="15306"/>
                  <a:pt x="13481" y="15308"/>
                  <a:pt x="13460" y="1530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81360" y="5408640"/>
            <a:ext cx="123840" cy="14400"/>
          </a:xfrm>
          <a:custGeom>
            <a:avLst/>
            <a:gdLst/>
            <a:ahLst/>
            <a:rect l="l" t="t" r="r" b="b"/>
            <a:pathLst>
              <a:path w="344" h="40">
                <a:moveTo>
                  <a:pt x="10228" y="15023"/>
                </a:moveTo>
                <a:cubicBezTo>
                  <a:pt x="10256" y="15021"/>
                  <a:pt x="10277" y="15029"/>
                  <a:pt x="10305" y="15033"/>
                </a:cubicBezTo>
                <a:cubicBezTo>
                  <a:pt x="10336" y="15038"/>
                  <a:pt x="10366" y="15046"/>
                  <a:pt x="10397" y="15050"/>
                </a:cubicBezTo>
                <a:cubicBezTo>
                  <a:pt x="10442" y="15056"/>
                  <a:pt x="10490" y="15061"/>
                  <a:pt x="10535" y="15061"/>
                </a:cubicBezTo>
                <a:cubicBezTo>
                  <a:pt x="10547" y="15060"/>
                  <a:pt x="10559" y="15059"/>
                  <a:pt x="10571" y="1505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340240"/>
            <a:ext cx="1122480" cy="85680"/>
          </a:xfrm>
          <a:custGeom>
            <a:avLst/>
            <a:gdLst/>
            <a:ahLst/>
            <a:rect l="l" t="t" r="r" b="b"/>
            <a:pathLst>
              <a:path w="3117" h="237">
                <a:moveTo>
                  <a:pt x="10256" y="15070"/>
                </a:moveTo>
                <a:cubicBezTo>
                  <a:pt x="10238" y="15063"/>
                  <a:pt x="10233" y="15065"/>
                  <a:pt x="10214" y="15061"/>
                </a:cubicBezTo>
                <a:cubicBezTo>
                  <a:pt x="10237" y="15057"/>
                  <a:pt x="10261" y="15052"/>
                  <a:pt x="10286" y="15050"/>
                </a:cubicBezTo>
                <a:cubicBezTo>
                  <a:pt x="10314" y="15047"/>
                  <a:pt x="10342" y="15044"/>
                  <a:pt x="10369" y="15041"/>
                </a:cubicBezTo>
                <a:cubicBezTo>
                  <a:pt x="10410" y="15036"/>
                  <a:pt x="10450" y="15027"/>
                  <a:pt x="10491" y="15022"/>
                </a:cubicBezTo>
                <a:cubicBezTo>
                  <a:pt x="10540" y="15016"/>
                  <a:pt x="10589" y="15013"/>
                  <a:pt x="10638" y="15008"/>
                </a:cubicBezTo>
                <a:cubicBezTo>
                  <a:pt x="10726" y="14999"/>
                  <a:pt x="10814" y="14989"/>
                  <a:pt x="10902" y="14984"/>
                </a:cubicBezTo>
                <a:cubicBezTo>
                  <a:pt x="11006" y="14978"/>
                  <a:pt x="11111" y="14960"/>
                  <a:pt x="11215" y="14953"/>
                </a:cubicBezTo>
                <a:cubicBezTo>
                  <a:pt x="11307" y="14947"/>
                  <a:pt x="11397" y="14937"/>
                  <a:pt x="11489" y="14930"/>
                </a:cubicBezTo>
                <a:cubicBezTo>
                  <a:pt x="11617" y="14920"/>
                  <a:pt x="11745" y="14918"/>
                  <a:pt x="11873" y="14908"/>
                </a:cubicBezTo>
                <a:cubicBezTo>
                  <a:pt x="12091" y="14891"/>
                  <a:pt x="12307" y="14873"/>
                  <a:pt x="12526" y="14866"/>
                </a:cubicBezTo>
                <a:cubicBezTo>
                  <a:pt x="12645" y="14862"/>
                  <a:pt x="12767" y="14871"/>
                  <a:pt x="12887" y="14875"/>
                </a:cubicBezTo>
                <a:cubicBezTo>
                  <a:pt x="12965" y="14877"/>
                  <a:pt x="13044" y="14883"/>
                  <a:pt x="13122" y="14884"/>
                </a:cubicBezTo>
                <a:cubicBezTo>
                  <a:pt x="13169" y="14885"/>
                  <a:pt x="13214" y="14889"/>
                  <a:pt x="13261" y="14891"/>
                </a:cubicBezTo>
                <a:cubicBezTo>
                  <a:pt x="13233" y="14892"/>
                  <a:pt x="13234" y="14894"/>
                  <a:pt x="13206" y="14895"/>
                </a:cubicBezTo>
                <a:cubicBezTo>
                  <a:pt x="13136" y="14897"/>
                  <a:pt x="13067" y="14897"/>
                  <a:pt x="12998" y="14903"/>
                </a:cubicBezTo>
                <a:cubicBezTo>
                  <a:pt x="12955" y="14906"/>
                  <a:pt x="12912" y="14907"/>
                  <a:pt x="12868" y="14909"/>
                </a:cubicBezTo>
                <a:cubicBezTo>
                  <a:pt x="12821" y="14912"/>
                  <a:pt x="12775" y="14915"/>
                  <a:pt x="12728" y="14916"/>
                </a:cubicBezTo>
                <a:cubicBezTo>
                  <a:pt x="12641" y="14918"/>
                  <a:pt x="12555" y="14912"/>
                  <a:pt x="12468" y="14917"/>
                </a:cubicBezTo>
                <a:cubicBezTo>
                  <a:pt x="12379" y="14922"/>
                  <a:pt x="12290" y="14932"/>
                  <a:pt x="12200" y="14934"/>
                </a:cubicBezTo>
                <a:cubicBezTo>
                  <a:pt x="12170" y="14935"/>
                  <a:pt x="12141" y="14936"/>
                  <a:pt x="12111" y="14936"/>
                </a:cubicBezTo>
                <a:cubicBezTo>
                  <a:pt x="11998" y="14938"/>
                  <a:pt x="11885" y="14940"/>
                  <a:pt x="11771" y="14941"/>
                </a:cubicBezTo>
                <a:cubicBezTo>
                  <a:pt x="11692" y="14942"/>
                  <a:pt x="11612" y="14944"/>
                  <a:pt x="11533" y="14947"/>
                </a:cubicBezTo>
                <a:cubicBezTo>
                  <a:pt x="11488" y="14949"/>
                  <a:pt x="11444" y="14952"/>
                  <a:pt x="11400" y="14955"/>
                </a:cubicBezTo>
                <a:cubicBezTo>
                  <a:pt x="11361" y="14958"/>
                  <a:pt x="11321" y="14961"/>
                  <a:pt x="11282" y="14961"/>
                </a:cubicBezTo>
                <a:cubicBezTo>
                  <a:pt x="11240" y="14961"/>
                  <a:pt x="11199" y="14958"/>
                  <a:pt x="11157" y="14956"/>
                </a:cubicBezTo>
                <a:cubicBezTo>
                  <a:pt x="11050" y="14950"/>
                  <a:pt x="10943" y="14941"/>
                  <a:pt x="10836" y="14945"/>
                </a:cubicBezTo>
                <a:cubicBezTo>
                  <a:pt x="10751" y="14948"/>
                  <a:pt x="10666" y="14954"/>
                  <a:pt x="10581" y="14959"/>
                </a:cubicBezTo>
                <a:cubicBezTo>
                  <a:pt x="10546" y="14961"/>
                  <a:pt x="10514" y="14959"/>
                  <a:pt x="10480" y="14958"/>
                </a:cubicBezTo>
                <a:cubicBezTo>
                  <a:pt x="10459" y="14957"/>
                  <a:pt x="10439" y="14957"/>
                  <a:pt x="10418" y="14956"/>
                </a:cubicBezTo>
                <a:cubicBezTo>
                  <a:pt x="10379" y="14954"/>
                  <a:pt x="10342" y="14957"/>
                  <a:pt x="10303" y="14956"/>
                </a:cubicBezTo>
                <a:cubicBezTo>
                  <a:pt x="10283" y="14956"/>
                  <a:pt x="10264" y="14954"/>
                  <a:pt x="10244" y="14953"/>
                </a:cubicBezTo>
                <a:cubicBezTo>
                  <a:pt x="10277" y="14950"/>
                  <a:pt x="10311" y="14946"/>
                  <a:pt x="10344" y="14944"/>
                </a:cubicBezTo>
                <a:cubicBezTo>
                  <a:pt x="10484" y="14935"/>
                  <a:pt x="10623" y="14921"/>
                  <a:pt x="10762" y="14905"/>
                </a:cubicBezTo>
                <a:cubicBezTo>
                  <a:pt x="10840" y="14896"/>
                  <a:pt x="10919" y="14894"/>
                  <a:pt x="10997" y="14883"/>
                </a:cubicBezTo>
                <a:cubicBezTo>
                  <a:pt x="11070" y="14872"/>
                  <a:pt x="11142" y="14867"/>
                  <a:pt x="11215" y="14862"/>
                </a:cubicBezTo>
                <a:cubicBezTo>
                  <a:pt x="11242" y="14860"/>
                  <a:pt x="11268" y="14859"/>
                  <a:pt x="11295" y="14858"/>
                </a:cubicBezTo>
                <a:cubicBezTo>
                  <a:pt x="11351" y="14856"/>
                  <a:pt x="11408" y="14853"/>
                  <a:pt x="11464" y="14850"/>
                </a:cubicBezTo>
                <a:cubicBezTo>
                  <a:pt x="11561" y="14845"/>
                  <a:pt x="11660" y="14834"/>
                  <a:pt x="11757" y="14837"/>
                </a:cubicBezTo>
                <a:cubicBezTo>
                  <a:pt x="11790" y="14838"/>
                  <a:pt x="11823" y="14841"/>
                  <a:pt x="11856" y="14844"/>
                </a:cubicBezTo>
                <a:cubicBezTo>
                  <a:pt x="12079" y="14864"/>
                  <a:pt x="12300" y="14850"/>
                  <a:pt x="12523" y="14850"/>
                </a:cubicBezTo>
                <a:cubicBezTo>
                  <a:pt x="12565" y="14850"/>
                  <a:pt x="12606" y="14850"/>
                  <a:pt x="12647" y="14850"/>
                </a:cubicBezTo>
                <a:cubicBezTo>
                  <a:pt x="12611" y="14848"/>
                  <a:pt x="12575" y="14846"/>
                  <a:pt x="12539" y="14844"/>
                </a:cubicBezTo>
                <a:cubicBezTo>
                  <a:pt x="12235" y="14823"/>
                  <a:pt x="11931" y="14844"/>
                  <a:pt x="11627" y="14856"/>
                </a:cubicBezTo>
                <a:cubicBezTo>
                  <a:pt x="11504" y="14861"/>
                  <a:pt x="11382" y="14869"/>
                  <a:pt x="11259" y="14876"/>
                </a:cubicBezTo>
                <a:cubicBezTo>
                  <a:pt x="11057" y="14887"/>
                  <a:pt x="10856" y="14879"/>
                  <a:pt x="10654" y="14876"/>
                </a:cubicBezTo>
                <a:cubicBezTo>
                  <a:pt x="10583" y="14875"/>
                  <a:pt x="10512" y="14874"/>
                  <a:pt x="10441" y="14873"/>
                </a:cubicBezTo>
                <a:cubicBezTo>
                  <a:pt x="10378" y="14872"/>
                  <a:pt x="10312" y="14869"/>
                  <a:pt x="10250" y="14873"/>
                </a:cubicBezTo>
                <a:cubicBezTo>
                  <a:pt x="10212" y="14875"/>
                  <a:pt x="10212" y="14876"/>
                  <a:pt x="10179" y="1489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30840" y="5384880"/>
            <a:ext cx="38160" cy="58680"/>
          </a:xfrm>
          <a:custGeom>
            <a:avLst/>
            <a:gdLst/>
            <a:ahLst/>
            <a:rect l="l" t="t" r="r" b="b"/>
            <a:pathLst>
              <a:path w="106" h="164">
                <a:moveTo>
                  <a:pt x="13523" y="15119"/>
                </a:moveTo>
                <a:cubicBezTo>
                  <a:pt x="13521" y="15098"/>
                  <a:pt x="13517" y="15076"/>
                  <a:pt x="13504" y="15059"/>
                </a:cubicBezTo>
                <a:cubicBezTo>
                  <a:pt x="13489" y="15040"/>
                  <a:pt x="13484" y="15021"/>
                  <a:pt x="13471" y="15001"/>
                </a:cubicBezTo>
                <a:cubicBezTo>
                  <a:pt x="13457" y="14979"/>
                  <a:pt x="13439" y="14970"/>
                  <a:pt x="13418" y="149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44880" y="5361120"/>
            <a:ext cx="14400" cy="50760"/>
          </a:xfrm>
          <a:custGeom>
            <a:avLst/>
            <a:gdLst/>
            <a:ahLst/>
            <a:rect l="l" t="t" r="r" b="b"/>
            <a:pathLst>
              <a:path w="40" h="140">
                <a:moveTo>
                  <a:pt x="13496" y="15031"/>
                </a:moveTo>
                <a:cubicBezTo>
                  <a:pt x="13498" y="15009"/>
                  <a:pt x="13498" y="14988"/>
                  <a:pt x="13490" y="14966"/>
                </a:cubicBezTo>
                <a:cubicBezTo>
                  <a:pt x="13482" y="14943"/>
                  <a:pt x="13475" y="14928"/>
                  <a:pt x="13465" y="14908"/>
                </a:cubicBezTo>
                <a:cubicBezTo>
                  <a:pt x="13463" y="14903"/>
                  <a:pt x="13462" y="14897"/>
                  <a:pt x="13460" y="1489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2.) a link to Snapgrades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43545" r="2248" b="7481"/>
          <a:stretch/>
        </p:blipFill>
        <p:spPr>
          <a:xfrm>
            <a:off x="990720" y="1905120"/>
            <a:ext cx="70866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0" t="28464" r="2248" b="22375"/>
          <a:stretch/>
        </p:blipFill>
        <p:spPr>
          <a:xfrm>
            <a:off x="990720" y="4419720"/>
            <a:ext cx="7086600" cy="243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79840" y="5899320"/>
            <a:ext cx="1395360" cy="31680"/>
          </a:xfrm>
          <a:custGeom>
            <a:avLst/>
            <a:gdLst/>
            <a:ahLst/>
            <a:rect l="l" t="t" r="r" b="b"/>
            <a:pathLst>
              <a:path w="3875" h="85">
                <a:moveTo>
                  <a:pt x="9946" y="16466"/>
                </a:moveTo>
                <a:cubicBezTo>
                  <a:pt x="9994" y="16465"/>
                  <a:pt x="10043" y="16464"/>
                  <a:pt x="10092" y="16464"/>
                </a:cubicBezTo>
                <a:cubicBezTo>
                  <a:pt x="10181" y="16463"/>
                  <a:pt x="10269" y="16460"/>
                  <a:pt x="10358" y="16458"/>
                </a:cubicBezTo>
                <a:cubicBezTo>
                  <a:pt x="10501" y="16454"/>
                  <a:pt x="10637" y="16438"/>
                  <a:pt x="10781" y="16446"/>
                </a:cubicBezTo>
                <a:cubicBezTo>
                  <a:pt x="10860" y="16450"/>
                  <a:pt x="10940" y="16455"/>
                  <a:pt x="11019" y="16452"/>
                </a:cubicBezTo>
                <a:cubicBezTo>
                  <a:pt x="11088" y="16449"/>
                  <a:pt x="11155" y="16448"/>
                  <a:pt x="11224" y="16453"/>
                </a:cubicBezTo>
                <a:cubicBezTo>
                  <a:pt x="11322" y="16460"/>
                  <a:pt x="11412" y="16459"/>
                  <a:pt x="11510" y="16453"/>
                </a:cubicBezTo>
                <a:cubicBezTo>
                  <a:pt x="11629" y="16446"/>
                  <a:pt x="11750" y="16453"/>
                  <a:pt x="11870" y="16452"/>
                </a:cubicBezTo>
                <a:cubicBezTo>
                  <a:pt x="11995" y="16451"/>
                  <a:pt x="12117" y="16468"/>
                  <a:pt x="12241" y="16472"/>
                </a:cubicBezTo>
                <a:cubicBezTo>
                  <a:pt x="12333" y="16475"/>
                  <a:pt x="12424" y="16461"/>
                  <a:pt x="12517" y="16466"/>
                </a:cubicBezTo>
                <a:cubicBezTo>
                  <a:pt x="12646" y="16473"/>
                  <a:pt x="12780" y="16480"/>
                  <a:pt x="12909" y="16469"/>
                </a:cubicBezTo>
                <a:cubicBezTo>
                  <a:pt x="12990" y="16462"/>
                  <a:pt x="13070" y="16445"/>
                  <a:pt x="13151" y="16435"/>
                </a:cubicBezTo>
                <a:cubicBezTo>
                  <a:pt x="13268" y="16421"/>
                  <a:pt x="13389" y="16418"/>
                  <a:pt x="13507" y="16417"/>
                </a:cubicBezTo>
                <a:cubicBezTo>
                  <a:pt x="13571" y="16416"/>
                  <a:pt x="13633" y="16414"/>
                  <a:pt x="13697" y="16408"/>
                </a:cubicBezTo>
                <a:cubicBezTo>
                  <a:pt x="13728" y="16405"/>
                  <a:pt x="13758" y="16400"/>
                  <a:pt x="13789" y="16394"/>
                </a:cubicBezTo>
                <a:cubicBezTo>
                  <a:pt x="13804" y="16389"/>
                  <a:pt x="13809" y="16388"/>
                  <a:pt x="13820" y="163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2.) a link to Snapgrades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3.) links to the other main pages of the site</a:t>
            </a: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43545" r="2248" b="7481"/>
          <a:stretch/>
        </p:blipFill>
        <p:spPr>
          <a:xfrm>
            <a:off x="990720" y="1905120"/>
            <a:ext cx="708660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28464" r="2248" b="22375"/>
          <a:stretch/>
        </p:blipFill>
        <p:spPr>
          <a:xfrm>
            <a:off x="990720" y="4419720"/>
            <a:ext cx="7086600" cy="2438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59200" y="6211800"/>
            <a:ext cx="853920" cy="31680"/>
          </a:xfrm>
          <a:custGeom>
            <a:avLst/>
            <a:gdLst/>
            <a:ahLst/>
            <a:rect l="l" t="t" r="r" b="b"/>
            <a:pathLst>
              <a:path w="2369" h="87">
                <a:moveTo>
                  <a:pt x="10722" y="17305"/>
                </a:moveTo>
                <a:cubicBezTo>
                  <a:pt x="10753" y="17303"/>
                  <a:pt x="10784" y="17300"/>
                  <a:pt x="10816" y="17300"/>
                </a:cubicBezTo>
                <a:cubicBezTo>
                  <a:pt x="10846" y="17300"/>
                  <a:pt x="10875" y="17301"/>
                  <a:pt x="10905" y="17302"/>
                </a:cubicBezTo>
                <a:cubicBezTo>
                  <a:pt x="10980" y="17305"/>
                  <a:pt x="11055" y="17314"/>
                  <a:pt x="11129" y="17322"/>
                </a:cubicBezTo>
                <a:cubicBezTo>
                  <a:pt x="11167" y="17326"/>
                  <a:pt x="11205" y="17330"/>
                  <a:pt x="11243" y="17333"/>
                </a:cubicBezTo>
                <a:cubicBezTo>
                  <a:pt x="11281" y="17336"/>
                  <a:pt x="11318" y="17338"/>
                  <a:pt x="11356" y="17339"/>
                </a:cubicBezTo>
                <a:cubicBezTo>
                  <a:pt x="11463" y="17341"/>
                  <a:pt x="11570" y="17341"/>
                  <a:pt x="11677" y="17339"/>
                </a:cubicBezTo>
                <a:cubicBezTo>
                  <a:pt x="11786" y="17337"/>
                  <a:pt x="11892" y="17321"/>
                  <a:pt x="12000" y="17314"/>
                </a:cubicBezTo>
                <a:cubicBezTo>
                  <a:pt x="12036" y="17312"/>
                  <a:pt x="12072" y="17309"/>
                  <a:pt x="12108" y="17308"/>
                </a:cubicBezTo>
                <a:cubicBezTo>
                  <a:pt x="12226" y="17303"/>
                  <a:pt x="12342" y="17294"/>
                  <a:pt x="12459" y="17283"/>
                </a:cubicBezTo>
                <a:cubicBezTo>
                  <a:pt x="12492" y="17280"/>
                  <a:pt x="12526" y="17275"/>
                  <a:pt x="12559" y="17274"/>
                </a:cubicBezTo>
                <a:cubicBezTo>
                  <a:pt x="12608" y="17272"/>
                  <a:pt x="12657" y="17271"/>
                  <a:pt x="12706" y="17268"/>
                </a:cubicBezTo>
                <a:cubicBezTo>
                  <a:pt x="12761" y="17265"/>
                  <a:pt x="12817" y="17261"/>
                  <a:pt x="12872" y="17257"/>
                </a:cubicBezTo>
                <a:cubicBezTo>
                  <a:pt x="12945" y="17252"/>
                  <a:pt x="13017" y="17263"/>
                  <a:pt x="13090" y="1727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459480"/>
            <a:ext cx="2324160" cy="54000"/>
          </a:xfrm>
          <a:custGeom>
            <a:avLst/>
            <a:gdLst/>
            <a:ahLst/>
            <a:rect l="l" t="t" r="r" b="b"/>
            <a:pathLst>
              <a:path w="6457" h="151">
                <a:moveTo>
                  <a:pt x="8748" y="18091"/>
                </a:moveTo>
                <a:cubicBezTo>
                  <a:pt x="9105" y="18097"/>
                  <a:pt x="9457" y="18035"/>
                  <a:pt x="9814" y="18032"/>
                </a:cubicBezTo>
                <a:cubicBezTo>
                  <a:pt x="10307" y="18028"/>
                  <a:pt x="10800" y="18025"/>
                  <a:pt x="11293" y="18029"/>
                </a:cubicBezTo>
                <a:cubicBezTo>
                  <a:pt x="11669" y="18032"/>
                  <a:pt x="12048" y="18020"/>
                  <a:pt x="12423" y="17996"/>
                </a:cubicBezTo>
                <a:cubicBezTo>
                  <a:pt x="12936" y="17963"/>
                  <a:pt x="13438" y="17940"/>
                  <a:pt x="13952" y="17965"/>
                </a:cubicBezTo>
                <a:cubicBezTo>
                  <a:pt x="14160" y="17975"/>
                  <a:pt x="14369" y="17987"/>
                  <a:pt x="14577" y="17997"/>
                </a:cubicBezTo>
                <a:cubicBezTo>
                  <a:pt x="14714" y="18004"/>
                  <a:pt x="14853" y="18013"/>
                  <a:pt x="14989" y="18005"/>
                </a:cubicBezTo>
                <a:cubicBezTo>
                  <a:pt x="15055" y="18001"/>
                  <a:pt x="15122" y="17999"/>
                  <a:pt x="15188" y="17993"/>
                </a:cubicBezTo>
                <a:cubicBezTo>
                  <a:pt x="15193" y="17991"/>
                  <a:pt x="15199" y="17990"/>
                  <a:pt x="15204" y="179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49560" y="6710400"/>
            <a:ext cx="719280" cy="23760"/>
          </a:xfrm>
          <a:custGeom>
            <a:avLst/>
            <a:gdLst/>
            <a:ahLst/>
            <a:rect l="l" t="t" r="r" b="b"/>
            <a:pathLst>
              <a:path w="2000" h="68">
                <a:moveTo>
                  <a:pt x="10982" y="18638"/>
                </a:moveTo>
                <a:cubicBezTo>
                  <a:pt x="10991" y="18655"/>
                  <a:pt x="10979" y="18666"/>
                  <a:pt x="11022" y="18679"/>
                </a:cubicBezTo>
                <a:cubicBezTo>
                  <a:pt x="11052" y="18688"/>
                  <a:pt x="11085" y="18687"/>
                  <a:pt x="11116" y="18690"/>
                </a:cubicBezTo>
                <a:cubicBezTo>
                  <a:pt x="11178" y="18697"/>
                  <a:pt x="11239" y="18697"/>
                  <a:pt x="11301" y="18701"/>
                </a:cubicBezTo>
                <a:cubicBezTo>
                  <a:pt x="11372" y="18705"/>
                  <a:pt x="11440" y="18705"/>
                  <a:pt x="11511" y="18701"/>
                </a:cubicBezTo>
                <a:cubicBezTo>
                  <a:pt x="11568" y="18698"/>
                  <a:pt x="11625" y="18693"/>
                  <a:pt x="11682" y="18688"/>
                </a:cubicBezTo>
                <a:cubicBezTo>
                  <a:pt x="11764" y="18681"/>
                  <a:pt x="11847" y="18680"/>
                  <a:pt x="11929" y="18676"/>
                </a:cubicBezTo>
                <a:cubicBezTo>
                  <a:pt x="11992" y="18673"/>
                  <a:pt x="12056" y="18673"/>
                  <a:pt x="12119" y="18671"/>
                </a:cubicBezTo>
                <a:cubicBezTo>
                  <a:pt x="12200" y="18669"/>
                  <a:pt x="12281" y="18670"/>
                  <a:pt x="12362" y="18669"/>
                </a:cubicBezTo>
                <a:cubicBezTo>
                  <a:pt x="12395" y="18669"/>
                  <a:pt x="12429" y="18666"/>
                  <a:pt x="12462" y="18665"/>
                </a:cubicBezTo>
                <a:cubicBezTo>
                  <a:pt x="12496" y="18663"/>
                  <a:pt x="12531" y="18664"/>
                  <a:pt x="12565" y="18663"/>
                </a:cubicBezTo>
                <a:cubicBezTo>
                  <a:pt x="12596" y="18663"/>
                  <a:pt x="12627" y="18662"/>
                  <a:pt x="12658" y="18660"/>
                </a:cubicBezTo>
                <a:cubicBezTo>
                  <a:pt x="12682" y="18659"/>
                  <a:pt x="12707" y="18655"/>
                  <a:pt x="12731" y="18657"/>
                </a:cubicBezTo>
                <a:cubicBezTo>
                  <a:pt x="12773" y="18660"/>
                  <a:pt x="12816" y="18662"/>
                  <a:pt x="12858" y="18665"/>
                </a:cubicBezTo>
                <a:cubicBezTo>
                  <a:pt x="12883" y="18667"/>
                  <a:pt x="12984" y="18665"/>
                  <a:pt x="12956" y="18680"/>
                </a:cubicBezTo>
                <a:cubicBezTo>
                  <a:pt x="12951" y="18680"/>
                  <a:pt x="12945" y="18679"/>
                  <a:pt x="12940" y="1867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5880" y="6502320"/>
            <a:ext cx="2311200" cy="25560"/>
          </a:xfrm>
          <a:custGeom>
            <a:avLst/>
            <a:gdLst/>
            <a:ahLst/>
            <a:rect l="l" t="t" r="r" b="b"/>
            <a:pathLst>
              <a:path w="6420" h="68">
                <a:moveTo>
                  <a:pt x="8683" y="18096"/>
                </a:moveTo>
                <a:cubicBezTo>
                  <a:pt x="8749" y="18104"/>
                  <a:pt x="8809" y="18113"/>
                  <a:pt x="8876" y="18113"/>
                </a:cubicBezTo>
                <a:cubicBezTo>
                  <a:pt x="9209" y="18111"/>
                  <a:pt x="9540" y="18091"/>
                  <a:pt x="9872" y="18076"/>
                </a:cubicBezTo>
                <a:cubicBezTo>
                  <a:pt x="10091" y="18066"/>
                  <a:pt x="10308" y="18066"/>
                  <a:pt x="10527" y="18080"/>
                </a:cubicBezTo>
                <a:cubicBezTo>
                  <a:pt x="10709" y="18092"/>
                  <a:pt x="10897" y="18109"/>
                  <a:pt x="11079" y="18104"/>
                </a:cubicBezTo>
                <a:cubicBezTo>
                  <a:pt x="11255" y="18100"/>
                  <a:pt x="11426" y="18110"/>
                  <a:pt x="11602" y="18115"/>
                </a:cubicBezTo>
                <a:cubicBezTo>
                  <a:pt x="11780" y="18120"/>
                  <a:pt x="11957" y="18123"/>
                  <a:pt x="12135" y="18127"/>
                </a:cubicBezTo>
                <a:cubicBezTo>
                  <a:pt x="12423" y="18134"/>
                  <a:pt x="12716" y="18139"/>
                  <a:pt x="13003" y="18124"/>
                </a:cubicBezTo>
                <a:cubicBezTo>
                  <a:pt x="13209" y="18113"/>
                  <a:pt x="13415" y="18103"/>
                  <a:pt x="13621" y="18096"/>
                </a:cubicBezTo>
                <a:cubicBezTo>
                  <a:pt x="13894" y="18086"/>
                  <a:pt x="14171" y="18052"/>
                  <a:pt x="14444" y="18071"/>
                </a:cubicBezTo>
                <a:cubicBezTo>
                  <a:pt x="14495" y="18075"/>
                  <a:pt x="14546" y="18081"/>
                  <a:pt x="14597" y="18085"/>
                </a:cubicBezTo>
                <a:cubicBezTo>
                  <a:pt x="14765" y="18098"/>
                  <a:pt x="14933" y="18089"/>
                  <a:pt x="15102" y="180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03560" y="6391440"/>
            <a:ext cx="1706400" cy="60120"/>
          </a:xfrm>
          <a:custGeom>
            <a:avLst/>
            <a:gdLst/>
            <a:ahLst/>
            <a:rect l="l" t="t" r="r" b="b"/>
            <a:pathLst>
              <a:path w="4741" h="168">
                <a:moveTo>
                  <a:pt x="8621" y="17919"/>
                </a:moveTo>
                <a:cubicBezTo>
                  <a:pt x="8718" y="17915"/>
                  <a:pt x="8814" y="17916"/>
                  <a:pt x="8910" y="17915"/>
                </a:cubicBezTo>
                <a:cubicBezTo>
                  <a:pt x="9024" y="17913"/>
                  <a:pt x="9140" y="17906"/>
                  <a:pt x="9254" y="17902"/>
                </a:cubicBezTo>
                <a:cubicBezTo>
                  <a:pt x="9497" y="17894"/>
                  <a:pt x="9744" y="17901"/>
                  <a:pt x="9988" y="17901"/>
                </a:cubicBezTo>
                <a:cubicBezTo>
                  <a:pt x="10171" y="17901"/>
                  <a:pt x="10354" y="17885"/>
                  <a:pt x="10537" y="17880"/>
                </a:cubicBezTo>
                <a:cubicBezTo>
                  <a:pt x="10732" y="17874"/>
                  <a:pt x="10930" y="17871"/>
                  <a:pt x="11124" y="17852"/>
                </a:cubicBezTo>
                <a:cubicBezTo>
                  <a:pt x="11190" y="17845"/>
                  <a:pt x="11255" y="17838"/>
                  <a:pt x="11322" y="17835"/>
                </a:cubicBezTo>
                <a:cubicBezTo>
                  <a:pt x="11597" y="17823"/>
                  <a:pt x="11873" y="17872"/>
                  <a:pt x="12146" y="17838"/>
                </a:cubicBezTo>
                <a:cubicBezTo>
                  <a:pt x="12301" y="17819"/>
                  <a:pt x="12455" y="17786"/>
                  <a:pt x="12609" y="17763"/>
                </a:cubicBezTo>
                <a:cubicBezTo>
                  <a:pt x="12724" y="17746"/>
                  <a:pt x="12844" y="17751"/>
                  <a:pt x="12959" y="17760"/>
                </a:cubicBezTo>
                <a:cubicBezTo>
                  <a:pt x="13092" y="17770"/>
                  <a:pt x="13242" y="17773"/>
                  <a:pt x="13361" y="1776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51280" y="6388200"/>
            <a:ext cx="711360" cy="21960"/>
          </a:xfrm>
          <a:custGeom>
            <a:avLst/>
            <a:gdLst/>
            <a:ahLst/>
            <a:rect l="l" t="t" r="r" b="b"/>
            <a:pathLst>
              <a:path w="1974" h="65">
                <a:moveTo>
                  <a:pt x="13198" y="17743"/>
                </a:moveTo>
                <a:cubicBezTo>
                  <a:pt x="13285" y="17745"/>
                  <a:pt x="13371" y="17747"/>
                  <a:pt x="13458" y="17755"/>
                </a:cubicBezTo>
                <a:cubicBezTo>
                  <a:pt x="13489" y="17758"/>
                  <a:pt x="13520" y="17759"/>
                  <a:pt x="13551" y="17761"/>
                </a:cubicBezTo>
                <a:cubicBezTo>
                  <a:pt x="13599" y="17765"/>
                  <a:pt x="13645" y="17768"/>
                  <a:pt x="13693" y="17769"/>
                </a:cubicBezTo>
                <a:cubicBezTo>
                  <a:pt x="13719" y="17769"/>
                  <a:pt x="13746" y="17768"/>
                  <a:pt x="13772" y="17769"/>
                </a:cubicBezTo>
                <a:cubicBezTo>
                  <a:pt x="13804" y="17770"/>
                  <a:pt x="13837" y="17777"/>
                  <a:pt x="13869" y="17780"/>
                </a:cubicBezTo>
                <a:cubicBezTo>
                  <a:pt x="13892" y="17782"/>
                  <a:pt x="13913" y="17787"/>
                  <a:pt x="13936" y="17788"/>
                </a:cubicBezTo>
                <a:cubicBezTo>
                  <a:pt x="13999" y="17791"/>
                  <a:pt x="14061" y="17793"/>
                  <a:pt x="14124" y="17797"/>
                </a:cubicBezTo>
                <a:cubicBezTo>
                  <a:pt x="14143" y="17798"/>
                  <a:pt x="14163" y="17798"/>
                  <a:pt x="14182" y="17799"/>
                </a:cubicBezTo>
                <a:cubicBezTo>
                  <a:pt x="14201" y="17800"/>
                  <a:pt x="14221" y="17801"/>
                  <a:pt x="14240" y="17801"/>
                </a:cubicBezTo>
                <a:cubicBezTo>
                  <a:pt x="14357" y="17803"/>
                  <a:pt x="14474" y="17804"/>
                  <a:pt x="14590" y="17805"/>
                </a:cubicBezTo>
                <a:cubicBezTo>
                  <a:pt x="14614" y="17805"/>
                  <a:pt x="14638" y="17807"/>
                  <a:pt x="14662" y="17807"/>
                </a:cubicBezTo>
                <a:cubicBezTo>
                  <a:pt x="14715" y="17806"/>
                  <a:pt x="14768" y="17805"/>
                  <a:pt x="14821" y="17805"/>
                </a:cubicBezTo>
                <a:cubicBezTo>
                  <a:pt x="14888" y="17805"/>
                  <a:pt x="14955" y="17800"/>
                  <a:pt x="15022" y="17801"/>
                </a:cubicBezTo>
                <a:cubicBezTo>
                  <a:pt x="15072" y="17802"/>
                  <a:pt x="15121" y="17806"/>
                  <a:pt x="15171" y="1780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0" y="6675480"/>
            <a:ext cx="706680" cy="52200"/>
          </a:xfrm>
          <a:custGeom>
            <a:avLst/>
            <a:gdLst/>
            <a:ahLst/>
            <a:rect l="l" t="t" r="r" b="b"/>
            <a:pathLst>
              <a:path w="1964" h="145">
                <a:moveTo>
                  <a:pt x="11000" y="18582"/>
                </a:moveTo>
                <a:cubicBezTo>
                  <a:pt x="11022" y="18581"/>
                  <a:pt x="11044" y="18583"/>
                  <a:pt x="11066" y="18582"/>
                </a:cubicBezTo>
                <a:cubicBezTo>
                  <a:pt x="11101" y="18581"/>
                  <a:pt x="11135" y="18575"/>
                  <a:pt x="11170" y="18574"/>
                </a:cubicBezTo>
                <a:cubicBezTo>
                  <a:pt x="11212" y="18572"/>
                  <a:pt x="11253" y="18569"/>
                  <a:pt x="11295" y="18565"/>
                </a:cubicBezTo>
                <a:cubicBezTo>
                  <a:pt x="11365" y="18559"/>
                  <a:pt x="11436" y="18557"/>
                  <a:pt x="11506" y="18551"/>
                </a:cubicBezTo>
                <a:cubicBezTo>
                  <a:pt x="11575" y="18545"/>
                  <a:pt x="11643" y="18546"/>
                  <a:pt x="11712" y="18546"/>
                </a:cubicBezTo>
                <a:cubicBezTo>
                  <a:pt x="11764" y="18546"/>
                  <a:pt x="11816" y="18550"/>
                  <a:pt x="11868" y="18552"/>
                </a:cubicBezTo>
                <a:cubicBezTo>
                  <a:pt x="11912" y="18554"/>
                  <a:pt x="11956" y="18554"/>
                  <a:pt x="12000" y="18554"/>
                </a:cubicBezTo>
                <a:cubicBezTo>
                  <a:pt x="12107" y="18554"/>
                  <a:pt x="12212" y="18562"/>
                  <a:pt x="12318" y="18566"/>
                </a:cubicBezTo>
                <a:cubicBezTo>
                  <a:pt x="12341" y="18567"/>
                  <a:pt x="12364" y="18566"/>
                  <a:pt x="12387" y="18568"/>
                </a:cubicBezTo>
                <a:cubicBezTo>
                  <a:pt x="12413" y="18570"/>
                  <a:pt x="12438" y="18571"/>
                  <a:pt x="12464" y="18573"/>
                </a:cubicBezTo>
                <a:cubicBezTo>
                  <a:pt x="12494" y="18576"/>
                  <a:pt x="12523" y="18580"/>
                  <a:pt x="12554" y="18580"/>
                </a:cubicBezTo>
                <a:cubicBezTo>
                  <a:pt x="12586" y="18580"/>
                  <a:pt x="12617" y="18577"/>
                  <a:pt x="12648" y="18576"/>
                </a:cubicBezTo>
                <a:cubicBezTo>
                  <a:pt x="12711" y="18574"/>
                  <a:pt x="12764" y="18576"/>
                  <a:pt x="12822" y="18590"/>
                </a:cubicBezTo>
                <a:cubicBezTo>
                  <a:pt x="12841" y="18595"/>
                  <a:pt x="12864" y="18593"/>
                  <a:pt x="12882" y="18601"/>
                </a:cubicBezTo>
                <a:cubicBezTo>
                  <a:pt x="12912" y="18615"/>
                  <a:pt x="12892" y="18632"/>
                  <a:pt x="12913" y="18648"/>
                </a:cubicBezTo>
                <a:cubicBezTo>
                  <a:pt x="12928" y="18652"/>
                  <a:pt x="12933" y="18654"/>
                  <a:pt x="12943" y="18654"/>
                </a:cubicBezTo>
                <a:cubicBezTo>
                  <a:pt x="12883" y="18654"/>
                  <a:pt x="12824" y="18657"/>
                  <a:pt x="12764" y="18657"/>
                </a:cubicBezTo>
                <a:cubicBezTo>
                  <a:pt x="12739" y="18657"/>
                  <a:pt x="12716" y="18661"/>
                  <a:pt x="12692" y="18662"/>
                </a:cubicBezTo>
                <a:cubicBezTo>
                  <a:pt x="12662" y="18664"/>
                  <a:pt x="12633" y="18664"/>
                  <a:pt x="12603" y="18666"/>
                </a:cubicBezTo>
                <a:cubicBezTo>
                  <a:pt x="12496" y="18672"/>
                  <a:pt x="12389" y="18685"/>
                  <a:pt x="12283" y="18687"/>
                </a:cubicBezTo>
                <a:cubicBezTo>
                  <a:pt x="12223" y="18688"/>
                  <a:pt x="12162" y="18685"/>
                  <a:pt x="12102" y="18682"/>
                </a:cubicBezTo>
                <a:cubicBezTo>
                  <a:pt x="12057" y="18680"/>
                  <a:pt x="12014" y="18674"/>
                  <a:pt x="11970" y="18668"/>
                </a:cubicBezTo>
                <a:cubicBezTo>
                  <a:pt x="11944" y="18664"/>
                  <a:pt x="11919" y="18663"/>
                  <a:pt x="11892" y="18662"/>
                </a:cubicBezTo>
                <a:cubicBezTo>
                  <a:pt x="11849" y="18660"/>
                  <a:pt x="11806" y="18660"/>
                  <a:pt x="11763" y="18660"/>
                </a:cubicBezTo>
                <a:cubicBezTo>
                  <a:pt x="11689" y="18660"/>
                  <a:pt x="11615" y="18662"/>
                  <a:pt x="11541" y="18666"/>
                </a:cubicBezTo>
                <a:cubicBezTo>
                  <a:pt x="11515" y="18667"/>
                  <a:pt x="11489" y="18673"/>
                  <a:pt x="11463" y="18673"/>
                </a:cubicBezTo>
                <a:cubicBezTo>
                  <a:pt x="11410" y="18672"/>
                  <a:pt x="11359" y="18660"/>
                  <a:pt x="11306" y="18660"/>
                </a:cubicBezTo>
                <a:cubicBezTo>
                  <a:pt x="11261" y="18660"/>
                  <a:pt x="11217" y="18666"/>
                  <a:pt x="11173" y="18659"/>
                </a:cubicBezTo>
                <a:cubicBezTo>
                  <a:pt x="11127" y="18652"/>
                  <a:pt x="11087" y="18650"/>
                  <a:pt x="11040" y="18651"/>
                </a:cubicBezTo>
                <a:cubicBezTo>
                  <a:pt x="11018" y="18651"/>
                  <a:pt x="11000" y="18657"/>
                  <a:pt x="10980" y="1866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75120" y="6737400"/>
            <a:ext cx="701640" cy="14400"/>
          </a:xfrm>
          <a:custGeom>
            <a:avLst/>
            <a:gdLst/>
            <a:ahLst/>
            <a:rect l="l" t="t" r="r" b="b"/>
            <a:pathLst>
              <a:path w="1953" h="39">
                <a:moveTo>
                  <a:pt x="11040" y="18734"/>
                </a:moveTo>
                <a:cubicBezTo>
                  <a:pt x="11062" y="18744"/>
                  <a:pt x="11074" y="18750"/>
                  <a:pt x="11107" y="18752"/>
                </a:cubicBezTo>
                <a:cubicBezTo>
                  <a:pt x="11206" y="18758"/>
                  <a:pt x="11308" y="18756"/>
                  <a:pt x="11406" y="18751"/>
                </a:cubicBezTo>
                <a:cubicBezTo>
                  <a:pt x="11573" y="18743"/>
                  <a:pt x="11740" y="18733"/>
                  <a:pt x="11906" y="18723"/>
                </a:cubicBezTo>
                <a:cubicBezTo>
                  <a:pt x="12043" y="18714"/>
                  <a:pt x="12181" y="18716"/>
                  <a:pt x="12318" y="18719"/>
                </a:cubicBezTo>
                <a:cubicBezTo>
                  <a:pt x="12360" y="18720"/>
                  <a:pt x="12403" y="18721"/>
                  <a:pt x="12445" y="18721"/>
                </a:cubicBezTo>
                <a:cubicBezTo>
                  <a:pt x="12509" y="18721"/>
                  <a:pt x="12572" y="18717"/>
                  <a:pt x="12636" y="18716"/>
                </a:cubicBezTo>
                <a:cubicBezTo>
                  <a:pt x="12730" y="18714"/>
                  <a:pt x="12821" y="18722"/>
                  <a:pt x="12915" y="18719"/>
                </a:cubicBezTo>
                <a:cubicBezTo>
                  <a:pt x="12943" y="18718"/>
                  <a:pt x="12948" y="18730"/>
                  <a:pt x="12973" y="18737"/>
                </a:cubicBezTo>
                <a:cubicBezTo>
                  <a:pt x="12979" y="18737"/>
                  <a:pt x="12986" y="18738"/>
                  <a:pt x="12992" y="1873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62320" y="6786720"/>
            <a:ext cx="331920" cy="17280"/>
          </a:xfrm>
          <a:custGeom>
            <a:avLst/>
            <a:gdLst/>
            <a:ahLst/>
            <a:rect l="l" t="t" r="r" b="b"/>
            <a:pathLst>
              <a:path w="919" h="50">
                <a:moveTo>
                  <a:pt x="12482" y="18852"/>
                </a:moveTo>
                <a:cubicBezTo>
                  <a:pt x="12390" y="18859"/>
                  <a:pt x="12299" y="18865"/>
                  <a:pt x="12207" y="18870"/>
                </a:cubicBezTo>
                <a:cubicBezTo>
                  <a:pt x="12032" y="18879"/>
                  <a:pt x="11857" y="18887"/>
                  <a:pt x="11682" y="18896"/>
                </a:cubicBezTo>
                <a:cubicBezTo>
                  <a:pt x="11643" y="18898"/>
                  <a:pt x="11602" y="18903"/>
                  <a:pt x="11564" y="1889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89640" y="6799320"/>
            <a:ext cx="41040" cy="3240"/>
          </a:xfrm>
          <a:custGeom>
            <a:avLst/>
            <a:gdLst/>
            <a:ahLst/>
            <a:rect l="l" t="t" r="r" b="b"/>
            <a:pathLst>
              <a:path w="115" h="6">
                <a:moveTo>
                  <a:pt x="12749" y="18893"/>
                </a:moveTo>
                <a:cubicBezTo>
                  <a:pt x="12781" y="18891"/>
                  <a:pt x="12812" y="18888"/>
                  <a:pt x="12844" y="18888"/>
                </a:cubicBezTo>
                <a:cubicBezTo>
                  <a:pt x="12850" y="18888"/>
                  <a:pt x="12857" y="18888"/>
                  <a:pt x="12863" y="188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2.) a link to Snapgrades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3.) links to the other main pages of the site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4.) navigation bar on right linking to main pages</a:t>
            </a: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8182" r="2148" b="14057"/>
          <a:stretch/>
        </p:blipFill>
        <p:spPr>
          <a:xfrm>
            <a:off x="380880" y="3048120"/>
            <a:ext cx="8305920" cy="3614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58200" y="4913280"/>
            <a:ext cx="349200" cy="34920"/>
          </a:xfrm>
          <a:custGeom>
            <a:avLst/>
            <a:gdLst/>
            <a:ahLst/>
            <a:rect l="l" t="t" r="r" b="b"/>
            <a:pathLst>
              <a:path w="968" h="97">
                <a:moveTo>
                  <a:pt x="20996" y="13725"/>
                </a:moveTo>
                <a:cubicBezTo>
                  <a:pt x="21025" y="13722"/>
                  <a:pt x="21048" y="13712"/>
                  <a:pt x="21076" y="13704"/>
                </a:cubicBezTo>
                <a:cubicBezTo>
                  <a:pt x="21123" y="13690"/>
                  <a:pt x="21169" y="13674"/>
                  <a:pt x="21217" y="13665"/>
                </a:cubicBezTo>
                <a:cubicBezTo>
                  <a:pt x="21264" y="13656"/>
                  <a:pt x="21312" y="13649"/>
                  <a:pt x="21360" y="13647"/>
                </a:cubicBezTo>
                <a:cubicBezTo>
                  <a:pt x="21416" y="13645"/>
                  <a:pt x="21472" y="13647"/>
                  <a:pt x="21527" y="13657"/>
                </a:cubicBezTo>
                <a:cubicBezTo>
                  <a:pt x="21563" y="13664"/>
                  <a:pt x="21600" y="13670"/>
                  <a:pt x="21635" y="13679"/>
                </a:cubicBezTo>
                <a:cubicBezTo>
                  <a:pt x="21668" y="13688"/>
                  <a:pt x="21698" y="13699"/>
                  <a:pt x="21731" y="13707"/>
                </a:cubicBezTo>
                <a:cubicBezTo>
                  <a:pt x="21766" y="13715"/>
                  <a:pt x="21801" y="13730"/>
                  <a:pt x="21836" y="13734"/>
                </a:cubicBezTo>
                <a:cubicBezTo>
                  <a:pt x="21859" y="13736"/>
                  <a:pt x="21883" y="13736"/>
                  <a:pt x="21906" y="13737"/>
                </a:cubicBezTo>
                <a:cubicBezTo>
                  <a:pt x="21927" y="13738"/>
                  <a:pt x="21942" y="13738"/>
                  <a:pt x="21963" y="1374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1720" y="5207040"/>
            <a:ext cx="835200" cy="36360"/>
          </a:xfrm>
          <a:custGeom>
            <a:avLst/>
            <a:gdLst/>
            <a:ahLst/>
            <a:rect l="l" t="t" r="r" b="b"/>
            <a:pathLst>
              <a:path w="2318" h="104">
                <a:moveTo>
                  <a:pt x="20977" y="14490"/>
                </a:moveTo>
                <a:cubicBezTo>
                  <a:pt x="21014" y="14493"/>
                  <a:pt x="21052" y="14497"/>
                  <a:pt x="21090" y="14495"/>
                </a:cubicBezTo>
                <a:cubicBezTo>
                  <a:pt x="21127" y="14493"/>
                  <a:pt x="21164" y="14486"/>
                  <a:pt x="21201" y="14484"/>
                </a:cubicBezTo>
                <a:cubicBezTo>
                  <a:pt x="21307" y="14477"/>
                  <a:pt x="21412" y="14468"/>
                  <a:pt x="21518" y="14464"/>
                </a:cubicBezTo>
                <a:cubicBezTo>
                  <a:pt x="21572" y="14462"/>
                  <a:pt x="21628" y="14461"/>
                  <a:pt x="21682" y="14464"/>
                </a:cubicBezTo>
                <a:cubicBezTo>
                  <a:pt x="21758" y="14468"/>
                  <a:pt x="21837" y="14467"/>
                  <a:pt x="21913" y="14476"/>
                </a:cubicBezTo>
                <a:cubicBezTo>
                  <a:pt x="21959" y="14481"/>
                  <a:pt x="22006" y="14489"/>
                  <a:pt x="22052" y="14495"/>
                </a:cubicBezTo>
                <a:cubicBezTo>
                  <a:pt x="22098" y="14501"/>
                  <a:pt x="22145" y="14504"/>
                  <a:pt x="22191" y="14506"/>
                </a:cubicBezTo>
                <a:cubicBezTo>
                  <a:pt x="22406" y="14513"/>
                  <a:pt x="22617" y="14495"/>
                  <a:pt x="22831" y="14520"/>
                </a:cubicBezTo>
                <a:cubicBezTo>
                  <a:pt x="22867" y="14524"/>
                  <a:pt x="22903" y="14531"/>
                  <a:pt x="22939" y="14536"/>
                </a:cubicBezTo>
                <a:cubicBezTo>
                  <a:pt x="22968" y="14540"/>
                  <a:pt x="22997" y="14543"/>
                  <a:pt x="23025" y="14548"/>
                </a:cubicBezTo>
                <a:cubicBezTo>
                  <a:pt x="23051" y="14552"/>
                  <a:pt x="23077" y="14556"/>
                  <a:pt x="23103" y="14558"/>
                </a:cubicBezTo>
                <a:cubicBezTo>
                  <a:pt x="23153" y="14562"/>
                  <a:pt x="23235" y="14536"/>
                  <a:pt x="23279" y="14548"/>
                </a:cubicBezTo>
                <a:cubicBezTo>
                  <a:pt x="23295" y="14547"/>
                  <a:pt x="23300" y="14548"/>
                  <a:pt x="23293" y="1456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32640" y="5345280"/>
            <a:ext cx="830160" cy="31680"/>
          </a:xfrm>
          <a:custGeom>
            <a:avLst/>
            <a:gdLst/>
            <a:ahLst/>
            <a:rect l="l" t="t" r="r" b="b"/>
            <a:pathLst>
              <a:path w="2304" h="88">
                <a:moveTo>
                  <a:pt x="20954" y="14858"/>
                </a:moveTo>
                <a:cubicBezTo>
                  <a:pt x="20949" y="14854"/>
                  <a:pt x="20945" y="14851"/>
                  <a:pt x="20940" y="14847"/>
                </a:cubicBezTo>
                <a:cubicBezTo>
                  <a:pt x="20963" y="14853"/>
                  <a:pt x="20960" y="14854"/>
                  <a:pt x="20984" y="14856"/>
                </a:cubicBezTo>
                <a:cubicBezTo>
                  <a:pt x="21073" y="14862"/>
                  <a:pt x="21164" y="14851"/>
                  <a:pt x="21253" y="14855"/>
                </a:cubicBezTo>
                <a:cubicBezTo>
                  <a:pt x="21290" y="14857"/>
                  <a:pt x="21327" y="14862"/>
                  <a:pt x="21364" y="14869"/>
                </a:cubicBezTo>
                <a:cubicBezTo>
                  <a:pt x="21400" y="14875"/>
                  <a:pt x="21435" y="14882"/>
                  <a:pt x="21471" y="14889"/>
                </a:cubicBezTo>
                <a:cubicBezTo>
                  <a:pt x="21507" y="14896"/>
                  <a:pt x="21543" y="14903"/>
                  <a:pt x="21579" y="14908"/>
                </a:cubicBezTo>
                <a:cubicBezTo>
                  <a:pt x="21619" y="14914"/>
                  <a:pt x="21661" y="14920"/>
                  <a:pt x="21701" y="14922"/>
                </a:cubicBezTo>
                <a:cubicBezTo>
                  <a:pt x="21786" y="14927"/>
                  <a:pt x="21873" y="14925"/>
                  <a:pt x="21958" y="14928"/>
                </a:cubicBezTo>
                <a:cubicBezTo>
                  <a:pt x="22036" y="14931"/>
                  <a:pt x="22112" y="14926"/>
                  <a:pt x="22190" y="14925"/>
                </a:cubicBezTo>
                <a:cubicBezTo>
                  <a:pt x="22226" y="14925"/>
                  <a:pt x="22260" y="14928"/>
                  <a:pt x="22296" y="14930"/>
                </a:cubicBezTo>
                <a:cubicBezTo>
                  <a:pt x="22333" y="14932"/>
                  <a:pt x="22371" y="14932"/>
                  <a:pt x="22408" y="14933"/>
                </a:cubicBezTo>
                <a:cubicBezTo>
                  <a:pt x="22483" y="14934"/>
                  <a:pt x="22557" y="14929"/>
                  <a:pt x="22632" y="14928"/>
                </a:cubicBezTo>
                <a:cubicBezTo>
                  <a:pt x="22692" y="14927"/>
                  <a:pt x="22752" y="14925"/>
                  <a:pt x="22812" y="14919"/>
                </a:cubicBezTo>
                <a:cubicBezTo>
                  <a:pt x="22840" y="14916"/>
                  <a:pt x="22868" y="14913"/>
                  <a:pt x="22895" y="14908"/>
                </a:cubicBezTo>
                <a:cubicBezTo>
                  <a:pt x="22935" y="14901"/>
                  <a:pt x="22975" y="14892"/>
                  <a:pt x="23015" y="14887"/>
                </a:cubicBezTo>
                <a:cubicBezTo>
                  <a:pt x="23049" y="14883"/>
                  <a:pt x="23082" y="14879"/>
                  <a:pt x="23116" y="14878"/>
                </a:cubicBezTo>
                <a:cubicBezTo>
                  <a:pt x="23166" y="14877"/>
                  <a:pt x="23190" y="14880"/>
                  <a:pt x="23229" y="1490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9640" y="5610240"/>
            <a:ext cx="811080" cy="49320"/>
          </a:xfrm>
          <a:custGeom>
            <a:avLst/>
            <a:gdLst/>
            <a:ahLst/>
            <a:rect l="l" t="t" r="r" b="b"/>
            <a:pathLst>
              <a:path w="2253" h="136">
                <a:moveTo>
                  <a:pt x="20998" y="15647"/>
                </a:moveTo>
                <a:cubicBezTo>
                  <a:pt x="21021" y="15637"/>
                  <a:pt x="21042" y="15626"/>
                  <a:pt x="21067" y="15617"/>
                </a:cubicBezTo>
                <a:cubicBezTo>
                  <a:pt x="21125" y="15597"/>
                  <a:pt x="21184" y="15590"/>
                  <a:pt x="21245" y="15586"/>
                </a:cubicBezTo>
                <a:cubicBezTo>
                  <a:pt x="21371" y="15578"/>
                  <a:pt x="21508" y="15581"/>
                  <a:pt x="21632" y="15605"/>
                </a:cubicBezTo>
                <a:cubicBezTo>
                  <a:pt x="21659" y="15610"/>
                  <a:pt x="21685" y="15615"/>
                  <a:pt x="21712" y="15620"/>
                </a:cubicBezTo>
                <a:cubicBezTo>
                  <a:pt x="21739" y="15625"/>
                  <a:pt x="21767" y="15628"/>
                  <a:pt x="21794" y="15634"/>
                </a:cubicBezTo>
                <a:cubicBezTo>
                  <a:pt x="21863" y="15648"/>
                  <a:pt x="21928" y="15665"/>
                  <a:pt x="21997" y="15673"/>
                </a:cubicBezTo>
                <a:cubicBezTo>
                  <a:pt x="22035" y="15678"/>
                  <a:pt x="22072" y="15679"/>
                  <a:pt x="22110" y="15681"/>
                </a:cubicBezTo>
                <a:cubicBezTo>
                  <a:pt x="22275" y="15689"/>
                  <a:pt x="22439" y="15677"/>
                  <a:pt x="22603" y="15678"/>
                </a:cubicBezTo>
                <a:cubicBezTo>
                  <a:pt x="22653" y="15678"/>
                  <a:pt x="22702" y="15685"/>
                  <a:pt x="22751" y="15689"/>
                </a:cubicBezTo>
                <a:cubicBezTo>
                  <a:pt x="22782" y="15691"/>
                  <a:pt x="22812" y="15695"/>
                  <a:pt x="22843" y="15699"/>
                </a:cubicBezTo>
                <a:cubicBezTo>
                  <a:pt x="22870" y="15702"/>
                  <a:pt x="22896" y="15706"/>
                  <a:pt x="22923" y="15709"/>
                </a:cubicBezTo>
                <a:cubicBezTo>
                  <a:pt x="22970" y="15714"/>
                  <a:pt x="23031" y="15726"/>
                  <a:pt x="23078" y="15719"/>
                </a:cubicBezTo>
                <a:cubicBezTo>
                  <a:pt x="23138" y="15710"/>
                  <a:pt x="23188" y="15696"/>
                  <a:pt x="23250" y="1569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0280" y="5494320"/>
            <a:ext cx="847440" cy="44640"/>
          </a:xfrm>
          <a:custGeom>
            <a:avLst/>
            <a:gdLst/>
            <a:ahLst/>
            <a:rect l="l" t="t" r="r" b="b"/>
            <a:pathLst>
              <a:path w="2353" h="121">
                <a:moveTo>
                  <a:pt x="20988" y="15270"/>
                </a:moveTo>
                <a:cubicBezTo>
                  <a:pt x="21012" y="15269"/>
                  <a:pt x="21007" y="15269"/>
                  <a:pt x="21031" y="15270"/>
                </a:cubicBezTo>
                <a:cubicBezTo>
                  <a:pt x="21060" y="15271"/>
                  <a:pt x="21089" y="15268"/>
                  <a:pt x="21118" y="15267"/>
                </a:cubicBezTo>
                <a:cubicBezTo>
                  <a:pt x="21272" y="15262"/>
                  <a:pt x="21419" y="15263"/>
                  <a:pt x="21569" y="15297"/>
                </a:cubicBezTo>
                <a:cubicBezTo>
                  <a:pt x="21648" y="15315"/>
                  <a:pt x="21729" y="15325"/>
                  <a:pt x="21809" y="15337"/>
                </a:cubicBezTo>
                <a:cubicBezTo>
                  <a:pt x="21851" y="15343"/>
                  <a:pt x="21893" y="15350"/>
                  <a:pt x="21935" y="15356"/>
                </a:cubicBezTo>
                <a:cubicBezTo>
                  <a:pt x="21968" y="15361"/>
                  <a:pt x="22000" y="15366"/>
                  <a:pt x="22033" y="15370"/>
                </a:cubicBezTo>
                <a:cubicBezTo>
                  <a:pt x="22198" y="15388"/>
                  <a:pt x="22364" y="15384"/>
                  <a:pt x="22530" y="15377"/>
                </a:cubicBezTo>
                <a:cubicBezTo>
                  <a:pt x="22571" y="15375"/>
                  <a:pt x="22613" y="15371"/>
                  <a:pt x="22654" y="15369"/>
                </a:cubicBezTo>
                <a:cubicBezTo>
                  <a:pt x="22714" y="15366"/>
                  <a:pt x="22774" y="15360"/>
                  <a:pt x="22834" y="15362"/>
                </a:cubicBezTo>
                <a:cubicBezTo>
                  <a:pt x="22858" y="15363"/>
                  <a:pt x="22880" y="15364"/>
                  <a:pt x="22903" y="15366"/>
                </a:cubicBezTo>
                <a:cubicBezTo>
                  <a:pt x="23005" y="15373"/>
                  <a:pt x="23106" y="15363"/>
                  <a:pt x="23208" y="15364"/>
                </a:cubicBezTo>
                <a:cubicBezTo>
                  <a:pt x="23241" y="15364"/>
                  <a:pt x="23266" y="15368"/>
                  <a:pt x="23297" y="15355"/>
                </a:cubicBezTo>
                <a:cubicBezTo>
                  <a:pt x="23312" y="15345"/>
                  <a:pt x="23316" y="15342"/>
                  <a:pt x="23326" y="1533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2360" y="5600880"/>
            <a:ext cx="880920" cy="215640"/>
          </a:xfrm>
          <a:custGeom>
            <a:avLst/>
            <a:gdLst/>
            <a:ahLst/>
            <a:rect l="l" t="t" r="r" b="b"/>
            <a:pathLst>
              <a:path w="2445" h="601">
                <a:moveTo>
                  <a:pt x="20951" y="16069"/>
                </a:moveTo>
                <a:cubicBezTo>
                  <a:pt x="21004" y="16062"/>
                  <a:pt x="21057" y="16050"/>
                  <a:pt x="21110" y="16044"/>
                </a:cubicBezTo>
                <a:cubicBezTo>
                  <a:pt x="21142" y="16040"/>
                  <a:pt x="21176" y="16041"/>
                  <a:pt x="21208" y="16039"/>
                </a:cubicBezTo>
                <a:cubicBezTo>
                  <a:pt x="21342" y="16032"/>
                  <a:pt x="21476" y="16033"/>
                  <a:pt x="21610" y="16027"/>
                </a:cubicBezTo>
                <a:cubicBezTo>
                  <a:pt x="21669" y="16024"/>
                  <a:pt x="21727" y="16022"/>
                  <a:pt x="21786" y="16020"/>
                </a:cubicBezTo>
                <a:cubicBezTo>
                  <a:pt x="21895" y="16017"/>
                  <a:pt x="22002" y="16024"/>
                  <a:pt x="22110" y="16033"/>
                </a:cubicBezTo>
                <a:cubicBezTo>
                  <a:pt x="22140" y="16036"/>
                  <a:pt x="22169" y="16038"/>
                  <a:pt x="22199" y="16039"/>
                </a:cubicBezTo>
                <a:cubicBezTo>
                  <a:pt x="22252" y="16041"/>
                  <a:pt x="22306" y="16040"/>
                  <a:pt x="22359" y="16044"/>
                </a:cubicBezTo>
                <a:cubicBezTo>
                  <a:pt x="22382" y="16046"/>
                  <a:pt x="22403" y="16048"/>
                  <a:pt x="22426" y="16050"/>
                </a:cubicBezTo>
                <a:cubicBezTo>
                  <a:pt x="22525" y="16057"/>
                  <a:pt x="22620" y="16072"/>
                  <a:pt x="22719" y="16086"/>
                </a:cubicBezTo>
                <a:cubicBezTo>
                  <a:pt x="22743" y="16089"/>
                  <a:pt x="22767" y="16092"/>
                  <a:pt x="22791" y="16095"/>
                </a:cubicBezTo>
                <a:cubicBezTo>
                  <a:pt x="22835" y="16101"/>
                  <a:pt x="22879" y="16106"/>
                  <a:pt x="22923" y="16111"/>
                </a:cubicBezTo>
                <a:cubicBezTo>
                  <a:pt x="22962" y="16115"/>
                  <a:pt x="23000" y="16119"/>
                  <a:pt x="23039" y="16120"/>
                </a:cubicBezTo>
                <a:cubicBezTo>
                  <a:pt x="23099" y="16122"/>
                  <a:pt x="23159" y="16116"/>
                  <a:pt x="23219" y="16128"/>
                </a:cubicBezTo>
                <a:cubicBezTo>
                  <a:pt x="23259" y="16136"/>
                  <a:pt x="23317" y="16175"/>
                  <a:pt x="23360" y="16155"/>
                </a:cubicBezTo>
                <a:cubicBezTo>
                  <a:pt x="23411" y="16131"/>
                  <a:pt x="23391" y="16071"/>
                  <a:pt x="23390" y="16028"/>
                </a:cubicBezTo>
                <a:cubicBezTo>
                  <a:pt x="23389" y="16004"/>
                  <a:pt x="23387" y="15982"/>
                  <a:pt x="23385" y="15958"/>
                </a:cubicBezTo>
                <a:cubicBezTo>
                  <a:pt x="23380" y="15900"/>
                  <a:pt x="23372" y="15842"/>
                  <a:pt x="23365" y="15784"/>
                </a:cubicBezTo>
                <a:cubicBezTo>
                  <a:pt x="23357" y="15720"/>
                  <a:pt x="23348" y="15651"/>
                  <a:pt x="23359" y="15588"/>
                </a:cubicBezTo>
                <a:cubicBezTo>
                  <a:pt x="23360" y="15571"/>
                  <a:pt x="23361" y="15565"/>
                  <a:pt x="23370" y="155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440" y="5276880"/>
            <a:ext cx="15840" cy="295200"/>
          </a:xfrm>
          <a:custGeom>
            <a:avLst/>
            <a:gdLst/>
            <a:ahLst/>
            <a:rect l="l" t="t" r="r" b="b"/>
            <a:pathLst>
              <a:path w="45" h="817">
                <a:moveTo>
                  <a:pt x="23288" y="15475"/>
                </a:moveTo>
                <a:cubicBezTo>
                  <a:pt x="23283" y="15437"/>
                  <a:pt x="23276" y="15397"/>
                  <a:pt x="23277" y="15359"/>
                </a:cubicBezTo>
                <a:cubicBezTo>
                  <a:pt x="23277" y="15329"/>
                  <a:pt x="23279" y="15296"/>
                  <a:pt x="23282" y="15266"/>
                </a:cubicBezTo>
                <a:cubicBezTo>
                  <a:pt x="23284" y="15243"/>
                  <a:pt x="23289" y="15218"/>
                  <a:pt x="23293" y="15195"/>
                </a:cubicBezTo>
                <a:cubicBezTo>
                  <a:pt x="23297" y="15171"/>
                  <a:pt x="23303" y="15147"/>
                  <a:pt x="23307" y="15123"/>
                </a:cubicBezTo>
                <a:cubicBezTo>
                  <a:pt x="23311" y="15099"/>
                  <a:pt x="23315" y="15074"/>
                  <a:pt x="23316" y="15050"/>
                </a:cubicBezTo>
                <a:cubicBezTo>
                  <a:pt x="23317" y="15027"/>
                  <a:pt x="23321" y="15006"/>
                  <a:pt x="23321" y="14983"/>
                </a:cubicBezTo>
                <a:cubicBezTo>
                  <a:pt x="23321" y="14956"/>
                  <a:pt x="23318" y="14930"/>
                  <a:pt x="23315" y="14903"/>
                </a:cubicBezTo>
                <a:cubicBezTo>
                  <a:pt x="23310" y="14864"/>
                  <a:pt x="23308" y="14820"/>
                  <a:pt x="23310" y="14780"/>
                </a:cubicBezTo>
                <a:cubicBezTo>
                  <a:pt x="23312" y="14739"/>
                  <a:pt x="23320" y="14700"/>
                  <a:pt x="23321" y="1465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320" y="5932440"/>
            <a:ext cx="776520" cy="25560"/>
          </a:xfrm>
          <a:custGeom>
            <a:avLst/>
            <a:gdLst/>
            <a:ahLst/>
            <a:rect l="l" t="t" r="r" b="b"/>
            <a:pathLst>
              <a:path w="2155" h="70">
                <a:moveTo>
                  <a:pt x="21012" y="16547"/>
                </a:moveTo>
                <a:cubicBezTo>
                  <a:pt x="21038" y="16544"/>
                  <a:pt x="21064" y="16540"/>
                  <a:pt x="21090" y="16538"/>
                </a:cubicBezTo>
                <a:cubicBezTo>
                  <a:pt x="21149" y="16533"/>
                  <a:pt x="21207" y="16525"/>
                  <a:pt x="21266" y="16519"/>
                </a:cubicBezTo>
                <a:cubicBezTo>
                  <a:pt x="21342" y="16512"/>
                  <a:pt x="21418" y="16507"/>
                  <a:pt x="21494" y="16503"/>
                </a:cubicBezTo>
                <a:cubicBezTo>
                  <a:pt x="21579" y="16498"/>
                  <a:pt x="21663" y="16484"/>
                  <a:pt x="21748" y="16480"/>
                </a:cubicBezTo>
                <a:cubicBezTo>
                  <a:pt x="21780" y="16478"/>
                  <a:pt x="21812" y="16478"/>
                  <a:pt x="21844" y="16478"/>
                </a:cubicBezTo>
                <a:cubicBezTo>
                  <a:pt x="21881" y="16478"/>
                  <a:pt x="21919" y="16483"/>
                  <a:pt x="21955" y="16485"/>
                </a:cubicBezTo>
                <a:cubicBezTo>
                  <a:pt x="22021" y="16489"/>
                  <a:pt x="22085" y="16498"/>
                  <a:pt x="22151" y="16502"/>
                </a:cubicBezTo>
                <a:cubicBezTo>
                  <a:pt x="22178" y="16504"/>
                  <a:pt x="22205" y="16504"/>
                  <a:pt x="22232" y="16505"/>
                </a:cubicBezTo>
                <a:cubicBezTo>
                  <a:pt x="22307" y="16508"/>
                  <a:pt x="22381" y="16504"/>
                  <a:pt x="22455" y="16499"/>
                </a:cubicBezTo>
                <a:cubicBezTo>
                  <a:pt x="22488" y="16497"/>
                  <a:pt x="22520" y="16493"/>
                  <a:pt x="22553" y="16491"/>
                </a:cubicBezTo>
                <a:cubicBezTo>
                  <a:pt x="22604" y="16487"/>
                  <a:pt x="22654" y="16488"/>
                  <a:pt x="22705" y="16492"/>
                </a:cubicBezTo>
                <a:cubicBezTo>
                  <a:pt x="22751" y="16495"/>
                  <a:pt x="22796" y="16496"/>
                  <a:pt x="22842" y="16497"/>
                </a:cubicBezTo>
                <a:cubicBezTo>
                  <a:pt x="22877" y="16498"/>
                  <a:pt x="22912" y="16502"/>
                  <a:pt x="22947" y="16505"/>
                </a:cubicBezTo>
                <a:cubicBezTo>
                  <a:pt x="22981" y="16508"/>
                  <a:pt x="23016" y="16509"/>
                  <a:pt x="23050" y="16511"/>
                </a:cubicBezTo>
                <a:cubicBezTo>
                  <a:pt x="23073" y="16512"/>
                  <a:pt x="23095" y="16511"/>
                  <a:pt x="23117" y="16511"/>
                </a:cubicBezTo>
                <a:cubicBezTo>
                  <a:pt x="23133" y="16511"/>
                  <a:pt x="23150" y="16509"/>
                  <a:pt x="23166" y="1650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34440" y="5935680"/>
            <a:ext cx="847440" cy="342720"/>
          </a:xfrm>
          <a:custGeom>
            <a:avLst/>
            <a:gdLst/>
            <a:ahLst/>
            <a:rect l="l" t="t" r="r" b="b"/>
            <a:pathLst>
              <a:path w="2355" h="953">
                <a:moveTo>
                  <a:pt x="20929" y="16868"/>
                </a:moveTo>
                <a:cubicBezTo>
                  <a:pt x="20954" y="16866"/>
                  <a:pt x="20979" y="16861"/>
                  <a:pt x="21007" y="16861"/>
                </a:cubicBezTo>
                <a:cubicBezTo>
                  <a:pt x="21088" y="16860"/>
                  <a:pt x="21166" y="16869"/>
                  <a:pt x="21247" y="16878"/>
                </a:cubicBezTo>
                <a:cubicBezTo>
                  <a:pt x="21290" y="16883"/>
                  <a:pt x="21332" y="16887"/>
                  <a:pt x="21375" y="16886"/>
                </a:cubicBezTo>
                <a:cubicBezTo>
                  <a:pt x="21433" y="16885"/>
                  <a:pt x="21492" y="16882"/>
                  <a:pt x="21549" y="16878"/>
                </a:cubicBezTo>
                <a:cubicBezTo>
                  <a:pt x="21580" y="16876"/>
                  <a:pt x="21611" y="16871"/>
                  <a:pt x="21642" y="16868"/>
                </a:cubicBezTo>
                <a:cubicBezTo>
                  <a:pt x="21754" y="16857"/>
                  <a:pt x="21867" y="16847"/>
                  <a:pt x="21980" y="16853"/>
                </a:cubicBezTo>
                <a:cubicBezTo>
                  <a:pt x="22106" y="16860"/>
                  <a:pt x="22230" y="16881"/>
                  <a:pt x="22357" y="16880"/>
                </a:cubicBezTo>
                <a:cubicBezTo>
                  <a:pt x="22473" y="16879"/>
                  <a:pt x="22593" y="16874"/>
                  <a:pt x="22707" y="16857"/>
                </a:cubicBezTo>
                <a:cubicBezTo>
                  <a:pt x="22762" y="16849"/>
                  <a:pt x="22820" y="16838"/>
                  <a:pt x="22876" y="16839"/>
                </a:cubicBezTo>
                <a:cubicBezTo>
                  <a:pt x="22899" y="16839"/>
                  <a:pt x="22924" y="16842"/>
                  <a:pt x="22947" y="16844"/>
                </a:cubicBezTo>
                <a:cubicBezTo>
                  <a:pt x="22996" y="16848"/>
                  <a:pt x="23177" y="16888"/>
                  <a:pt x="23213" y="16855"/>
                </a:cubicBezTo>
                <a:cubicBezTo>
                  <a:pt x="23235" y="16835"/>
                  <a:pt x="23231" y="16789"/>
                  <a:pt x="23238" y="16761"/>
                </a:cubicBezTo>
                <a:cubicBezTo>
                  <a:pt x="23259" y="16672"/>
                  <a:pt x="23265" y="16579"/>
                  <a:pt x="23272" y="16488"/>
                </a:cubicBezTo>
                <a:cubicBezTo>
                  <a:pt x="23277" y="16536"/>
                  <a:pt x="23282" y="16583"/>
                  <a:pt x="23282" y="16632"/>
                </a:cubicBezTo>
                <a:cubicBezTo>
                  <a:pt x="23282" y="16712"/>
                  <a:pt x="23284" y="16803"/>
                  <a:pt x="23274" y="16882"/>
                </a:cubicBezTo>
                <a:cubicBezTo>
                  <a:pt x="23271" y="16903"/>
                  <a:pt x="23266" y="16920"/>
                  <a:pt x="23261" y="16941"/>
                </a:cubicBezTo>
                <a:cubicBezTo>
                  <a:pt x="23240" y="17034"/>
                  <a:pt x="23227" y="17120"/>
                  <a:pt x="23233" y="17216"/>
                </a:cubicBezTo>
                <a:cubicBezTo>
                  <a:pt x="23235" y="17243"/>
                  <a:pt x="23239" y="17270"/>
                  <a:pt x="23243" y="17297"/>
                </a:cubicBezTo>
                <a:cubicBezTo>
                  <a:pt x="23248" y="17335"/>
                  <a:pt x="23258" y="17371"/>
                  <a:pt x="23266" y="17407"/>
                </a:cubicBezTo>
                <a:cubicBezTo>
                  <a:pt x="23272" y="17423"/>
                  <a:pt x="23274" y="17428"/>
                  <a:pt x="23274" y="17440"/>
                </a:cubicBezTo>
                <a:cubicBezTo>
                  <a:pt x="23252" y="17435"/>
                  <a:pt x="23228" y="17431"/>
                  <a:pt x="23205" y="17425"/>
                </a:cubicBezTo>
                <a:cubicBezTo>
                  <a:pt x="23085" y="17396"/>
                  <a:pt x="22962" y="17381"/>
                  <a:pt x="22840" y="17360"/>
                </a:cubicBezTo>
                <a:cubicBezTo>
                  <a:pt x="22762" y="17347"/>
                  <a:pt x="22683" y="17340"/>
                  <a:pt x="22605" y="17329"/>
                </a:cubicBezTo>
                <a:cubicBezTo>
                  <a:pt x="22447" y="17308"/>
                  <a:pt x="22300" y="17290"/>
                  <a:pt x="22140" y="17293"/>
                </a:cubicBezTo>
                <a:cubicBezTo>
                  <a:pt x="22028" y="17295"/>
                  <a:pt x="21916" y="17311"/>
                  <a:pt x="21804" y="17310"/>
                </a:cubicBezTo>
                <a:cubicBezTo>
                  <a:pt x="21719" y="17309"/>
                  <a:pt x="21638" y="17293"/>
                  <a:pt x="21555" y="17283"/>
                </a:cubicBezTo>
                <a:cubicBezTo>
                  <a:pt x="21464" y="17272"/>
                  <a:pt x="21378" y="17279"/>
                  <a:pt x="21288" y="17288"/>
                </a:cubicBezTo>
                <a:cubicBezTo>
                  <a:pt x="21264" y="17290"/>
                  <a:pt x="21239" y="17291"/>
                  <a:pt x="21214" y="17294"/>
                </a:cubicBezTo>
                <a:cubicBezTo>
                  <a:pt x="21160" y="17301"/>
                  <a:pt x="21080" y="17284"/>
                  <a:pt x="21035" y="17294"/>
                </a:cubicBezTo>
                <a:cubicBezTo>
                  <a:pt x="21005" y="17301"/>
                  <a:pt x="21004" y="17297"/>
                  <a:pt x="20990" y="17322"/>
                </a:cubicBezTo>
                <a:cubicBezTo>
                  <a:pt x="20985" y="17331"/>
                  <a:pt x="20979" y="17379"/>
                  <a:pt x="20974" y="17391"/>
                </a:cubicBezTo>
                <a:cubicBezTo>
                  <a:pt x="21012" y="17388"/>
                  <a:pt x="21051" y="17384"/>
                  <a:pt x="21090" y="17380"/>
                </a:cubicBezTo>
                <a:cubicBezTo>
                  <a:pt x="21135" y="17376"/>
                  <a:pt x="21178" y="17376"/>
                  <a:pt x="21223" y="17377"/>
                </a:cubicBezTo>
                <a:cubicBezTo>
                  <a:pt x="21270" y="17378"/>
                  <a:pt x="21317" y="17378"/>
                  <a:pt x="21364" y="17380"/>
                </a:cubicBezTo>
                <a:cubicBezTo>
                  <a:pt x="21402" y="17382"/>
                  <a:pt x="21441" y="17386"/>
                  <a:pt x="21479" y="17389"/>
                </a:cubicBezTo>
                <a:cubicBezTo>
                  <a:pt x="21522" y="17392"/>
                  <a:pt x="21561" y="17390"/>
                  <a:pt x="21604" y="17386"/>
                </a:cubicBezTo>
                <a:cubicBezTo>
                  <a:pt x="21631" y="17384"/>
                  <a:pt x="21657" y="17381"/>
                  <a:pt x="21684" y="17380"/>
                </a:cubicBezTo>
                <a:cubicBezTo>
                  <a:pt x="21824" y="17376"/>
                  <a:pt x="21962" y="17390"/>
                  <a:pt x="22101" y="17393"/>
                </a:cubicBezTo>
                <a:cubicBezTo>
                  <a:pt x="22155" y="17394"/>
                  <a:pt x="22208" y="17386"/>
                  <a:pt x="22262" y="17386"/>
                </a:cubicBezTo>
                <a:cubicBezTo>
                  <a:pt x="22284" y="17386"/>
                  <a:pt x="22306" y="17389"/>
                  <a:pt x="22328" y="17389"/>
                </a:cubicBezTo>
                <a:cubicBezTo>
                  <a:pt x="22413" y="17390"/>
                  <a:pt x="22483" y="17405"/>
                  <a:pt x="22566" y="17418"/>
                </a:cubicBezTo>
                <a:cubicBezTo>
                  <a:pt x="22648" y="17431"/>
                  <a:pt x="22744" y="17433"/>
                  <a:pt x="22827" y="17427"/>
                </a:cubicBezTo>
                <a:cubicBezTo>
                  <a:pt x="22849" y="17425"/>
                  <a:pt x="22871" y="17421"/>
                  <a:pt x="22893" y="17418"/>
                </a:cubicBezTo>
                <a:cubicBezTo>
                  <a:pt x="22922" y="17415"/>
                  <a:pt x="22951" y="17411"/>
                  <a:pt x="22981" y="17410"/>
                </a:cubicBezTo>
                <a:cubicBezTo>
                  <a:pt x="23037" y="17408"/>
                  <a:pt x="23094" y="17405"/>
                  <a:pt x="23150" y="17405"/>
                </a:cubicBezTo>
                <a:cubicBezTo>
                  <a:pt x="23166" y="17405"/>
                  <a:pt x="23183" y="17407"/>
                  <a:pt x="23199" y="1740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72520" y="5907240"/>
            <a:ext cx="42840" cy="326880"/>
          </a:xfrm>
          <a:custGeom>
            <a:avLst/>
            <a:gdLst/>
            <a:ahLst/>
            <a:rect l="l" t="t" r="r" b="b"/>
            <a:pathLst>
              <a:path w="120" h="909">
                <a:moveTo>
                  <a:pt x="23279" y="16488"/>
                </a:moveTo>
                <a:cubicBezTo>
                  <a:pt x="23280" y="16513"/>
                  <a:pt x="23279" y="16539"/>
                  <a:pt x="23279" y="16564"/>
                </a:cubicBezTo>
                <a:cubicBezTo>
                  <a:pt x="23279" y="16585"/>
                  <a:pt x="23279" y="16606"/>
                  <a:pt x="23280" y="16627"/>
                </a:cubicBezTo>
                <a:cubicBezTo>
                  <a:pt x="23281" y="16651"/>
                  <a:pt x="23283" y="16676"/>
                  <a:pt x="23283" y="16700"/>
                </a:cubicBezTo>
                <a:cubicBezTo>
                  <a:pt x="23284" y="16754"/>
                  <a:pt x="23267" y="16807"/>
                  <a:pt x="23261" y="16860"/>
                </a:cubicBezTo>
                <a:cubicBezTo>
                  <a:pt x="23258" y="16882"/>
                  <a:pt x="23256" y="16905"/>
                  <a:pt x="23255" y="16927"/>
                </a:cubicBezTo>
                <a:cubicBezTo>
                  <a:pt x="23254" y="16952"/>
                  <a:pt x="23257" y="16978"/>
                  <a:pt x="23261" y="17002"/>
                </a:cubicBezTo>
                <a:cubicBezTo>
                  <a:pt x="23268" y="17044"/>
                  <a:pt x="23278" y="17085"/>
                  <a:pt x="23285" y="17127"/>
                </a:cubicBezTo>
                <a:cubicBezTo>
                  <a:pt x="23288" y="17146"/>
                  <a:pt x="23289" y="17152"/>
                  <a:pt x="23293" y="17164"/>
                </a:cubicBezTo>
                <a:cubicBezTo>
                  <a:pt x="23294" y="17134"/>
                  <a:pt x="23296" y="17105"/>
                  <a:pt x="23299" y="17075"/>
                </a:cubicBezTo>
                <a:cubicBezTo>
                  <a:pt x="23305" y="17007"/>
                  <a:pt x="23306" y="16937"/>
                  <a:pt x="23307" y="16869"/>
                </a:cubicBezTo>
                <a:cubicBezTo>
                  <a:pt x="23308" y="16820"/>
                  <a:pt x="23310" y="16773"/>
                  <a:pt x="23315" y="16725"/>
                </a:cubicBezTo>
                <a:cubicBezTo>
                  <a:pt x="23319" y="16690"/>
                  <a:pt x="23324" y="16656"/>
                  <a:pt x="23329" y="16621"/>
                </a:cubicBezTo>
                <a:cubicBezTo>
                  <a:pt x="23333" y="16591"/>
                  <a:pt x="23335" y="16562"/>
                  <a:pt x="23341" y="16533"/>
                </a:cubicBezTo>
                <a:cubicBezTo>
                  <a:pt x="23346" y="16509"/>
                  <a:pt x="23350" y="16485"/>
                  <a:pt x="23355" y="16461"/>
                </a:cubicBezTo>
                <a:cubicBezTo>
                  <a:pt x="23359" y="16443"/>
                  <a:pt x="23363" y="16426"/>
                  <a:pt x="23366" y="16408"/>
                </a:cubicBezTo>
                <a:cubicBezTo>
                  <a:pt x="23368" y="16436"/>
                  <a:pt x="23368" y="16463"/>
                  <a:pt x="23366" y="16491"/>
                </a:cubicBezTo>
                <a:cubicBezTo>
                  <a:pt x="23364" y="16524"/>
                  <a:pt x="23363" y="16556"/>
                  <a:pt x="23360" y="16589"/>
                </a:cubicBezTo>
                <a:cubicBezTo>
                  <a:pt x="23356" y="16625"/>
                  <a:pt x="23355" y="16661"/>
                  <a:pt x="23354" y="16697"/>
                </a:cubicBezTo>
                <a:cubicBezTo>
                  <a:pt x="23353" y="16728"/>
                  <a:pt x="23349" y="16758"/>
                  <a:pt x="23351" y="16789"/>
                </a:cubicBezTo>
                <a:cubicBezTo>
                  <a:pt x="23353" y="16819"/>
                  <a:pt x="23355" y="16851"/>
                  <a:pt x="23360" y="16880"/>
                </a:cubicBezTo>
                <a:cubicBezTo>
                  <a:pt x="23365" y="16906"/>
                  <a:pt x="23369" y="16930"/>
                  <a:pt x="23370" y="16957"/>
                </a:cubicBezTo>
                <a:cubicBezTo>
                  <a:pt x="23371" y="17018"/>
                  <a:pt x="23370" y="17079"/>
                  <a:pt x="23373" y="17139"/>
                </a:cubicBezTo>
                <a:cubicBezTo>
                  <a:pt x="23374" y="17163"/>
                  <a:pt x="23374" y="17187"/>
                  <a:pt x="23374" y="17211"/>
                </a:cubicBezTo>
                <a:cubicBezTo>
                  <a:pt x="23374" y="17236"/>
                  <a:pt x="23374" y="17261"/>
                  <a:pt x="23374" y="17285"/>
                </a:cubicBezTo>
                <a:cubicBezTo>
                  <a:pt x="23374" y="17300"/>
                  <a:pt x="23374" y="17306"/>
                  <a:pt x="23374" y="173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47040" y="5072040"/>
            <a:ext cx="358560" cy="27000"/>
          </a:xfrm>
          <a:custGeom>
            <a:avLst/>
            <a:gdLst/>
            <a:ahLst/>
            <a:rect l="l" t="t" r="r" b="b"/>
            <a:pathLst>
              <a:path w="1000" h="73">
                <a:moveTo>
                  <a:pt x="20990" y="14159"/>
                </a:moveTo>
                <a:cubicBezTo>
                  <a:pt x="20976" y="14153"/>
                  <a:pt x="20972" y="14151"/>
                  <a:pt x="20962" y="14151"/>
                </a:cubicBezTo>
                <a:cubicBezTo>
                  <a:pt x="20987" y="14129"/>
                  <a:pt x="21017" y="14111"/>
                  <a:pt x="21051" y="14104"/>
                </a:cubicBezTo>
                <a:cubicBezTo>
                  <a:pt x="21089" y="14096"/>
                  <a:pt x="21129" y="14091"/>
                  <a:pt x="21168" y="14090"/>
                </a:cubicBezTo>
                <a:cubicBezTo>
                  <a:pt x="21194" y="14089"/>
                  <a:pt x="21219" y="14091"/>
                  <a:pt x="21245" y="14093"/>
                </a:cubicBezTo>
                <a:cubicBezTo>
                  <a:pt x="21283" y="14096"/>
                  <a:pt x="21318" y="14106"/>
                  <a:pt x="21355" y="14112"/>
                </a:cubicBezTo>
                <a:cubicBezTo>
                  <a:pt x="21391" y="14118"/>
                  <a:pt x="21428" y="14123"/>
                  <a:pt x="21465" y="14125"/>
                </a:cubicBezTo>
                <a:cubicBezTo>
                  <a:pt x="21490" y="14126"/>
                  <a:pt x="21515" y="14126"/>
                  <a:pt x="21540" y="14128"/>
                </a:cubicBezTo>
                <a:cubicBezTo>
                  <a:pt x="21562" y="14130"/>
                  <a:pt x="21584" y="14132"/>
                  <a:pt x="21607" y="14131"/>
                </a:cubicBezTo>
                <a:cubicBezTo>
                  <a:pt x="21628" y="14130"/>
                  <a:pt x="21649" y="14131"/>
                  <a:pt x="21671" y="14131"/>
                </a:cubicBezTo>
                <a:cubicBezTo>
                  <a:pt x="21694" y="14131"/>
                  <a:pt x="21716" y="14130"/>
                  <a:pt x="21739" y="14131"/>
                </a:cubicBezTo>
                <a:cubicBezTo>
                  <a:pt x="21760" y="14132"/>
                  <a:pt x="21779" y="14134"/>
                  <a:pt x="21800" y="14137"/>
                </a:cubicBezTo>
                <a:cubicBezTo>
                  <a:pt x="21823" y="14141"/>
                  <a:pt x="21844" y="14145"/>
                  <a:pt x="21867" y="14147"/>
                </a:cubicBezTo>
                <a:cubicBezTo>
                  <a:pt x="21889" y="14149"/>
                  <a:pt x="21912" y="14147"/>
                  <a:pt x="21933" y="14153"/>
                </a:cubicBezTo>
                <a:cubicBezTo>
                  <a:pt x="21947" y="14158"/>
                  <a:pt x="21951" y="14160"/>
                  <a:pt x="21961" y="1416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From either the home page or the navigation bar at the right, click on your course page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26682" r="2248" b="22375"/>
          <a:stretch/>
        </p:blipFill>
        <p:spPr>
          <a:xfrm>
            <a:off x="762120" y="4495680"/>
            <a:ext cx="7619760" cy="2362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7709" r="1562" b="13540"/>
          <a:stretch/>
        </p:blipFill>
        <p:spPr>
          <a:xfrm>
            <a:off x="762120" y="1066680"/>
            <a:ext cx="7619760" cy="3475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272360" y="3200400"/>
            <a:ext cx="746280" cy="31680"/>
          </a:xfrm>
          <a:custGeom>
            <a:avLst/>
            <a:gdLst/>
            <a:ahLst/>
            <a:rect l="l" t="t" r="r" b="b"/>
            <a:pathLst>
              <a:path w="2072" h="87">
                <a:moveTo>
                  <a:pt x="20255" y="8941"/>
                </a:moveTo>
                <a:cubicBezTo>
                  <a:pt x="20233" y="8946"/>
                  <a:pt x="20221" y="8948"/>
                  <a:pt x="20200" y="8950"/>
                </a:cubicBezTo>
                <a:cubicBezTo>
                  <a:pt x="20234" y="8962"/>
                  <a:pt x="20265" y="8971"/>
                  <a:pt x="20302" y="8975"/>
                </a:cubicBezTo>
                <a:cubicBezTo>
                  <a:pt x="20324" y="8977"/>
                  <a:pt x="20346" y="8978"/>
                  <a:pt x="20368" y="8978"/>
                </a:cubicBezTo>
                <a:cubicBezTo>
                  <a:pt x="20397" y="8978"/>
                  <a:pt x="20425" y="8973"/>
                  <a:pt x="20454" y="8969"/>
                </a:cubicBezTo>
                <a:cubicBezTo>
                  <a:pt x="20500" y="8962"/>
                  <a:pt x="20545" y="8950"/>
                  <a:pt x="20590" y="8942"/>
                </a:cubicBezTo>
                <a:cubicBezTo>
                  <a:pt x="20614" y="8938"/>
                  <a:pt x="20635" y="8937"/>
                  <a:pt x="20659" y="8935"/>
                </a:cubicBezTo>
                <a:cubicBezTo>
                  <a:pt x="20689" y="8933"/>
                  <a:pt x="20720" y="8930"/>
                  <a:pt x="20750" y="8930"/>
                </a:cubicBezTo>
                <a:cubicBezTo>
                  <a:pt x="20777" y="8930"/>
                  <a:pt x="20803" y="8933"/>
                  <a:pt x="20830" y="8935"/>
                </a:cubicBezTo>
                <a:cubicBezTo>
                  <a:pt x="20897" y="8939"/>
                  <a:pt x="20965" y="8946"/>
                  <a:pt x="21032" y="8949"/>
                </a:cubicBezTo>
                <a:cubicBezTo>
                  <a:pt x="21054" y="8950"/>
                  <a:pt x="21073" y="8950"/>
                  <a:pt x="21095" y="8950"/>
                </a:cubicBezTo>
                <a:cubicBezTo>
                  <a:pt x="21170" y="8949"/>
                  <a:pt x="21245" y="8948"/>
                  <a:pt x="21320" y="8945"/>
                </a:cubicBezTo>
                <a:cubicBezTo>
                  <a:pt x="21443" y="8941"/>
                  <a:pt x="21565" y="8933"/>
                  <a:pt x="21687" y="8922"/>
                </a:cubicBezTo>
                <a:cubicBezTo>
                  <a:pt x="21725" y="8919"/>
                  <a:pt x="21762" y="8917"/>
                  <a:pt x="21800" y="8913"/>
                </a:cubicBezTo>
                <a:cubicBezTo>
                  <a:pt x="21819" y="8911"/>
                  <a:pt x="21839" y="8908"/>
                  <a:pt x="21858" y="8906"/>
                </a:cubicBezTo>
                <a:cubicBezTo>
                  <a:pt x="21898" y="8902"/>
                  <a:pt x="21938" y="8900"/>
                  <a:pt x="21978" y="8899"/>
                </a:cubicBezTo>
                <a:cubicBezTo>
                  <a:pt x="22028" y="8898"/>
                  <a:pt x="22077" y="8894"/>
                  <a:pt x="22127" y="8892"/>
                </a:cubicBezTo>
                <a:cubicBezTo>
                  <a:pt x="22150" y="8891"/>
                  <a:pt x="22169" y="8897"/>
                  <a:pt x="22191" y="8899"/>
                </a:cubicBezTo>
                <a:cubicBezTo>
                  <a:pt x="22211" y="8901"/>
                  <a:pt x="22236" y="8906"/>
                  <a:pt x="22256" y="8906"/>
                </a:cubicBezTo>
                <a:cubicBezTo>
                  <a:pt x="22261" y="8904"/>
                  <a:pt x="22266" y="8902"/>
                  <a:pt x="22271" y="890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4240" y="6440400"/>
            <a:ext cx="2497320" cy="61920"/>
          </a:xfrm>
          <a:custGeom>
            <a:avLst/>
            <a:gdLst/>
            <a:ahLst/>
            <a:rect l="l" t="t" r="r" b="b"/>
            <a:pathLst>
              <a:path w="6939" h="171">
                <a:moveTo>
                  <a:pt x="8493" y="17982"/>
                </a:moveTo>
                <a:cubicBezTo>
                  <a:pt x="8485" y="17964"/>
                  <a:pt x="8482" y="17960"/>
                  <a:pt x="8484" y="17947"/>
                </a:cubicBezTo>
                <a:cubicBezTo>
                  <a:pt x="8602" y="17992"/>
                  <a:pt x="8698" y="18016"/>
                  <a:pt x="8825" y="18029"/>
                </a:cubicBezTo>
                <a:cubicBezTo>
                  <a:pt x="8997" y="18047"/>
                  <a:pt x="9177" y="18060"/>
                  <a:pt x="9350" y="18058"/>
                </a:cubicBezTo>
                <a:cubicBezTo>
                  <a:pt x="9469" y="18057"/>
                  <a:pt x="9590" y="18055"/>
                  <a:pt x="9709" y="18052"/>
                </a:cubicBezTo>
                <a:cubicBezTo>
                  <a:pt x="10070" y="18042"/>
                  <a:pt x="10427" y="18024"/>
                  <a:pt x="10788" y="18021"/>
                </a:cubicBezTo>
                <a:cubicBezTo>
                  <a:pt x="10997" y="18019"/>
                  <a:pt x="11200" y="17979"/>
                  <a:pt x="11408" y="17960"/>
                </a:cubicBezTo>
                <a:cubicBezTo>
                  <a:pt x="11743" y="17929"/>
                  <a:pt x="12078" y="17919"/>
                  <a:pt x="12414" y="17930"/>
                </a:cubicBezTo>
                <a:cubicBezTo>
                  <a:pt x="12612" y="17937"/>
                  <a:pt x="12808" y="17933"/>
                  <a:pt x="13006" y="17930"/>
                </a:cubicBezTo>
                <a:cubicBezTo>
                  <a:pt x="13177" y="17927"/>
                  <a:pt x="13349" y="17925"/>
                  <a:pt x="13520" y="17935"/>
                </a:cubicBezTo>
                <a:cubicBezTo>
                  <a:pt x="13717" y="17946"/>
                  <a:pt x="13915" y="17976"/>
                  <a:pt x="14112" y="17968"/>
                </a:cubicBezTo>
                <a:cubicBezTo>
                  <a:pt x="14480" y="17952"/>
                  <a:pt x="14846" y="17902"/>
                  <a:pt x="15215" y="17893"/>
                </a:cubicBezTo>
                <a:cubicBezTo>
                  <a:pt x="15287" y="17891"/>
                  <a:pt x="15354" y="17899"/>
                  <a:pt x="15422" y="1790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All forms and handouts from the beginning of the year can be accessed here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Helpful links to online math and calculator tutorials, AP Central, textbook resources, etc. can be found here, as well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81200" y="5477040"/>
            <a:ext cx="920520" cy="25200"/>
          </a:xfrm>
          <a:custGeom>
            <a:avLst/>
            <a:gdLst/>
            <a:ahLst/>
            <a:rect l="l" t="t" r="r" b="b"/>
            <a:pathLst>
              <a:path w="2558" h="70">
                <a:moveTo>
                  <a:pt x="2236" y="15267"/>
                </a:moveTo>
                <a:cubicBezTo>
                  <a:pt x="2205" y="15270"/>
                  <a:pt x="2198" y="15270"/>
                  <a:pt x="2170" y="15281"/>
                </a:cubicBezTo>
                <a:cubicBezTo>
                  <a:pt x="2192" y="15271"/>
                  <a:pt x="2211" y="15255"/>
                  <a:pt x="2234" y="15248"/>
                </a:cubicBezTo>
                <a:cubicBezTo>
                  <a:pt x="2272" y="15237"/>
                  <a:pt x="2326" y="15226"/>
                  <a:pt x="2364" y="15225"/>
                </a:cubicBezTo>
                <a:cubicBezTo>
                  <a:pt x="2384" y="15224"/>
                  <a:pt x="2404" y="15231"/>
                  <a:pt x="2425" y="15230"/>
                </a:cubicBezTo>
                <a:cubicBezTo>
                  <a:pt x="2472" y="15229"/>
                  <a:pt x="2508" y="15236"/>
                  <a:pt x="2554" y="15241"/>
                </a:cubicBezTo>
                <a:cubicBezTo>
                  <a:pt x="2576" y="15243"/>
                  <a:pt x="2595" y="15242"/>
                  <a:pt x="2618" y="15245"/>
                </a:cubicBezTo>
                <a:cubicBezTo>
                  <a:pt x="2638" y="15248"/>
                  <a:pt x="2658" y="15251"/>
                  <a:pt x="2678" y="15253"/>
                </a:cubicBezTo>
                <a:cubicBezTo>
                  <a:pt x="2701" y="15256"/>
                  <a:pt x="2726" y="15257"/>
                  <a:pt x="2750" y="15259"/>
                </a:cubicBezTo>
                <a:cubicBezTo>
                  <a:pt x="2798" y="15263"/>
                  <a:pt x="2850" y="15269"/>
                  <a:pt x="2897" y="15266"/>
                </a:cubicBezTo>
                <a:cubicBezTo>
                  <a:pt x="2921" y="15265"/>
                  <a:pt x="2946" y="15259"/>
                  <a:pt x="2971" y="15259"/>
                </a:cubicBezTo>
                <a:cubicBezTo>
                  <a:pt x="3044" y="15258"/>
                  <a:pt x="3117" y="15259"/>
                  <a:pt x="3190" y="15258"/>
                </a:cubicBezTo>
                <a:cubicBezTo>
                  <a:pt x="3234" y="15257"/>
                  <a:pt x="3281" y="15256"/>
                  <a:pt x="3325" y="15253"/>
                </a:cubicBezTo>
                <a:cubicBezTo>
                  <a:pt x="3362" y="15250"/>
                  <a:pt x="3399" y="15248"/>
                  <a:pt x="3436" y="15247"/>
                </a:cubicBezTo>
                <a:cubicBezTo>
                  <a:pt x="3470" y="15246"/>
                  <a:pt x="3503" y="15244"/>
                  <a:pt x="3536" y="15242"/>
                </a:cubicBezTo>
                <a:cubicBezTo>
                  <a:pt x="3565" y="15240"/>
                  <a:pt x="3592" y="15237"/>
                  <a:pt x="3621" y="15236"/>
                </a:cubicBezTo>
                <a:cubicBezTo>
                  <a:pt x="3645" y="15235"/>
                  <a:pt x="3666" y="15232"/>
                  <a:pt x="3690" y="15230"/>
                </a:cubicBezTo>
                <a:cubicBezTo>
                  <a:pt x="3731" y="15226"/>
                  <a:pt x="3771" y="15223"/>
                  <a:pt x="3812" y="15222"/>
                </a:cubicBezTo>
                <a:cubicBezTo>
                  <a:pt x="3870" y="15221"/>
                  <a:pt x="3929" y="15220"/>
                  <a:pt x="3986" y="15219"/>
                </a:cubicBezTo>
                <a:cubicBezTo>
                  <a:pt x="4024" y="15218"/>
                  <a:pt x="4061" y="15214"/>
                  <a:pt x="4099" y="15214"/>
                </a:cubicBezTo>
                <a:cubicBezTo>
                  <a:pt x="4132" y="15214"/>
                  <a:pt x="4166" y="15212"/>
                  <a:pt x="4199" y="15212"/>
                </a:cubicBezTo>
                <a:cubicBezTo>
                  <a:pt x="4235" y="15212"/>
                  <a:pt x="4269" y="15212"/>
                  <a:pt x="4305" y="15212"/>
                </a:cubicBezTo>
                <a:cubicBezTo>
                  <a:pt x="4331" y="15212"/>
                  <a:pt x="4356" y="15213"/>
                  <a:pt x="4381" y="15214"/>
                </a:cubicBezTo>
                <a:cubicBezTo>
                  <a:pt x="4414" y="15215"/>
                  <a:pt x="4446" y="15221"/>
                  <a:pt x="4478" y="15222"/>
                </a:cubicBezTo>
                <a:cubicBezTo>
                  <a:pt x="4510" y="15223"/>
                  <a:pt x="4542" y="15219"/>
                  <a:pt x="4573" y="15219"/>
                </a:cubicBezTo>
                <a:cubicBezTo>
                  <a:pt x="4596" y="15219"/>
                  <a:pt x="4616" y="15223"/>
                  <a:pt x="4639" y="15225"/>
                </a:cubicBezTo>
                <a:cubicBezTo>
                  <a:pt x="4660" y="15227"/>
                  <a:pt x="4675" y="15231"/>
                  <a:pt x="4696" y="15228"/>
                </a:cubicBezTo>
                <a:cubicBezTo>
                  <a:pt x="4713" y="15226"/>
                  <a:pt x="4704" y="15222"/>
                  <a:pt x="4721" y="1521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1720" y="5514840"/>
            <a:ext cx="860400" cy="47880"/>
          </a:xfrm>
          <a:custGeom>
            <a:avLst/>
            <a:gdLst/>
            <a:ahLst/>
            <a:rect l="l" t="t" r="r" b="b"/>
            <a:pathLst>
              <a:path w="2391" h="134">
                <a:moveTo>
                  <a:pt x="2256" y="15380"/>
                </a:moveTo>
                <a:cubicBezTo>
                  <a:pt x="2242" y="15371"/>
                  <a:pt x="2238" y="15368"/>
                  <a:pt x="2227" y="15366"/>
                </a:cubicBezTo>
                <a:cubicBezTo>
                  <a:pt x="2266" y="15361"/>
                  <a:pt x="2303" y="15352"/>
                  <a:pt x="2342" y="15345"/>
                </a:cubicBezTo>
                <a:cubicBezTo>
                  <a:pt x="2362" y="15341"/>
                  <a:pt x="2382" y="15337"/>
                  <a:pt x="2402" y="15333"/>
                </a:cubicBezTo>
                <a:cubicBezTo>
                  <a:pt x="2500" y="15315"/>
                  <a:pt x="2605" y="15315"/>
                  <a:pt x="2704" y="15323"/>
                </a:cubicBezTo>
                <a:cubicBezTo>
                  <a:pt x="2802" y="15331"/>
                  <a:pt x="2897" y="15355"/>
                  <a:pt x="2994" y="15369"/>
                </a:cubicBezTo>
                <a:cubicBezTo>
                  <a:pt x="3043" y="15376"/>
                  <a:pt x="3092" y="15379"/>
                  <a:pt x="3141" y="15384"/>
                </a:cubicBezTo>
                <a:cubicBezTo>
                  <a:pt x="3185" y="15388"/>
                  <a:pt x="3228" y="15395"/>
                  <a:pt x="3271" y="15400"/>
                </a:cubicBezTo>
                <a:cubicBezTo>
                  <a:pt x="3303" y="15403"/>
                  <a:pt x="3335" y="15406"/>
                  <a:pt x="3367" y="15408"/>
                </a:cubicBezTo>
                <a:cubicBezTo>
                  <a:pt x="3394" y="15410"/>
                  <a:pt x="3422" y="15413"/>
                  <a:pt x="3447" y="15414"/>
                </a:cubicBezTo>
                <a:cubicBezTo>
                  <a:pt x="3512" y="15418"/>
                  <a:pt x="3578" y="15417"/>
                  <a:pt x="3643" y="15422"/>
                </a:cubicBezTo>
                <a:cubicBezTo>
                  <a:pt x="3665" y="15424"/>
                  <a:pt x="3686" y="15428"/>
                  <a:pt x="3707" y="15430"/>
                </a:cubicBezTo>
                <a:cubicBezTo>
                  <a:pt x="3727" y="15432"/>
                  <a:pt x="3747" y="15432"/>
                  <a:pt x="3768" y="15433"/>
                </a:cubicBezTo>
                <a:cubicBezTo>
                  <a:pt x="3805" y="15434"/>
                  <a:pt x="3841" y="15436"/>
                  <a:pt x="3878" y="15436"/>
                </a:cubicBezTo>
                <a:cubicBezTo>
                  <a:pt x="3898" y="15436"/>
                  <a:pt x="3917" y="15436"/>
                  <a:pt x="3937" y="15436"/>
                </a:cubicBezTo>
                <a:cubicBezTo>
                  <a:pt x="3981" y="15435"/>
                  <a:pt x="4025" y="15432"/>
                  <a:pt x="4069" y="15433"/>
                </a:cubicBezTo>
                <a:cubicBezTo>
                  <a:pt x="4119" y="15434"/>
                  <a:pt x="4169" y="15437"/>
                  <a:pt x="4219" y="15439"/>
                </a:cubicBezTo>
                <a:cubicBezTo>
                  <a:pt x="4252" y="15440"/>
                  <a:pt x="4285" y="15443"/>
                  <a:pt x="4318" y="15447"/>
                </a:cubicBezTo>
                <a:cubicBezTo>
                  <a:pt x="4391" y="15455"/>
                  <a:pt x="4488" y="15458"/>
                  <a:pt x="4559" y="15438"/>
                </a:cubicBezTo>
                <a:cubicBezTo>
                  <a:pt x="4580" y="15432"/>
                  <a:pt x="4598" y="15417"/>
                  <a:pt x="4617" y="1540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080" y="5375160"/>
            <a:ext cx="905040" cy="49320"/>
          </a:xfrm>
          <a:custGeom>
            <a:avLst/>
            <a:gdLst/>
            <a:ahLst/>
            <a:rect l="l" t="t" r="r" b="b"/>
            <a:pathLst>
              <a:path w="2512" h="137">
                <a:moveTo>
                  <a:pt x="2206" y="14955"/>
                </a:moveTo>
                <a:cubicBezTo>
                  <a:pt x="2192" y="14955"/>
                  <a:pt x="2187" y="14955"/>
                  <a:pt x="2178" y="14958"/>
                </a:cubicBezTo>
                <a:cubicBezTo>
                  <a:pt x="2203" y="14956"/>
                  <a:pt x="2227" y="14956"/>
                  <a:pt x="2253" y="14950"/>
                </a:cubicBezTo>
                <a:cubicBezTo>
                  <a:pt x="2293" y="14940"/>
                  <a:pt x="2320" y="14934"/>
                  <a:pt x="2361" y="14933"/>
                </a:cubicBezTo>
                <a:cubicBezTo>
                  <a:pt x="2400" y="14932"/>
                  <a:pt x="2435" y="14940"/>
                  <a:pt x="2474" y="14944"/>
                </a:cubicBezTo>
                <a:cubicBezTo>
                  <a:pt x="2498" y="14946"/>
                  <a:pt x="2521" y="14945"/>
                  <a:pt x="2545" y="14947"/>
                </a:cubicBezTo>
                <a:cubicBezTo>
                  <a:pt x="2600" y="14952"/>
                  <a:pt x="2657" y="14952"/>
                  <a:pt x="2712" y="14961"/>
                </a:cubicBezTo>
                <a:cubicBezTo>
                  <a:pt x="2751" y="14967"/>
                  <a:pt x="2788" y="14976"/>
                  <a:pt x="2827" y="14980"/>
                </a:cubicBezTo>
                <a:cubicBezTo>
                  <a:pt x="2871" y="14984"/>
                  <a:pt x="2914" y="14994"/>
                  <a:pt x="2957" y="15000"/>
                </a:cubicBezTo>
                <a:cubicBezTo>
                  <a:pt x="2990" y="15005"/>
                  <a:pt x="3025" y="15007"/>
                  <a:pt x="3058" y="15008"/>
                </a:cubicBezTo>
                <a:cubicBezTo>
                  <a:pt x="3116" y="15010"/>
                  <a:pt x="3173" y="15013"/>
                  <a:pt x="3231" y="15016"/>
                </a:cubicBezTo>
                <a:cubicBezTo>
                  <a:pt x="3313" y="15020"/>
                  <a:pt x="3395" y="15024"/>
                  <a:pt x="3477" y="15026"/>
                </a:cubicBezTo>
                <a:cubicBezTo>
                  <a:pt x="3508" y="15027"/>
                  <a:pt x="3537" y="15028"/>
                  <a:pt x="3568" y="15030"/>
                </a:cubicBezTo>
                <a:cubicBezTo>
                  <a:pt x="3635" y="15034"/>
                  <a:pt x="3703" y="15037"/>
                  <a:pt x="3770" y="15037"/>
                </a:cubicBezTo>
                <a:cubicBezTo>
                  <a:pt x="3822" y="15037"/>
                  <a:pt x="3874" y="15033"/>
                  <a:pt x="3926" y="15030"/>
                </a:cubicBezTo>
                <a:cubicBezTo>
                  <a:pt x="3946" y="15029"/>
                  <a:pt x="3965" y="15027"/>
                  <a:pt x="3984" y="15025"/>
                </a:cubicBezTo>
                <a:cubicBezTo>
                  <a:pt x="4007" y="15023"/>
                  <a:pt x="4030" y="15020"/>
                  <a:pt x="4053" y="15019"/>
                </a:cubicBezTo>
                <a:cubicBezTo>
                  <a:pt x="4080" y="15018"/>
                  <a:pt x="4105" y="15020"/>
                  <a:pt x="4132" y="15020"/>
                </a:cubicBezTo>
                <a:cubicBezTo>
                  <a:pt x="4174" y="15020"/>
                  <a:pt x="4214" y="15026"/>
                  <a:pt x="4255" y="15026"/>
                </a:cubicBezTo>
                <a:cubicBezTo>
                  <a:pt x="4304" y="15026"/>
                  <a:pt x="4351" y="15031"/>
                  <a:pt x="4399" y="15033"/>
                </a:cubicBezTo>
                <a:cubicBezTo>
                  <a:pt x="4422" y="15034"/>
                  <a:pt x="4445" y="15034"/>
                  <a:pt x="4468" y="15037"/>
                </a:cubicBezTo>
                <a:cubicBezTo>
                  <a:pt x="4498" y="15041"/>
                  <a:pt x="4530" y="15044"/>
                  <a:pt x="4559" y="15047"/>
                </a:cubicBezTo>
                <a:cubicBezTo>
                  <a:pt x="4588" y="15050"/>
                  <a:pt x="4617" y="15054"/>
                  <a:pt x="4645" y="15058"/>
                </a:cubicBezTo>
                <a:cubicBezTo>
                  <a:pt x="4659" y="15060"/>
                  <a:pt x="4671" y="15063"/>
                  <a:pt x="4689" y="1506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21:10:31Z</dcterms:created>
  <dc:creator>Kevin and Jackie Wetmore</dc:creator>
  <dc:description/>
  <dc:language>en-US</dc:language>
  <cp:lastModifiedBy>Jackie Wetmore</cp:lastModifiedBy>
  <dcterms:modified xsi:type="dcterms:W3CDTF">2010-08-16T04:59:49Z</dcterms:modified>
  <cp:revision>17</cp:revision>
  <dc:subject/>
  <dc:title>Slide 1</dc:title>
</cp:coreProperties>
</file>